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6387-F874-4BE4-B0DF-7BA680BCD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0A9B-447D-4C7C-BC07-EE662598A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5726-0135-4082-AACF-5F163EE6A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A650-D381-4D21-8619-E25EE796DA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F193-FD83-4C84-91A9-2A5A66663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80F2-CCA0-4C86-B5CE-E81913E65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1D05D-C93C-4D9E-8846-DD5850ADA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07A91-932A-4476-B5F2-437F0E9AB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7776F-2025-4A47-A6E0-7FFFC4B11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B703-F4BE-404F-8B76-5C91DF631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38215-A6DD-4689-B547-A846BB6C2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1ED8-6AA9-4D9D-8FA3-A620185D7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C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 Efficiency Check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AC81-F974-4499-9E13-55B7B80810FD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87280" y="3357720"/>
            <a:ext cx="73915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A m</a:t>
            </a: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arketing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 hatékonyságának ellenőrzése</a:t>
            </a:r>
            <a:r>
              <a:rPr b="1" lang="en-GB" sz="3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514600" y="201780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EF4A-BC36-469C-B4D9-C40C7AC345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8"/>
          <p:cNvSpPr/>
          <p:nvPr/>
        </p:nvSpPr>
        <p:spPr>
          <a:xfrm>
            <a:off x="1042920" y="2133720"/>
            <a:ext cx="712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808080"/>
                </a:solidFill>
                <a:latin typeface="Arial"/>
              </a:rPr>
              <a:t>A m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 </a:t>
            </a:r>
            <a:r>
              <a:rPr b="1" i="1" lang="hu-HU" sz="3600" spc="-1" strike="noStrike">
                <a:solidFill>
                  <a:srgbClr val="808080"/>
                </a:solidFill>
                <a:latin typeface="Arial"/>
              </a:rPr>
              <a:t>eljárásokat mindig ellenőriznünk kell, hogy fel tudjuk mérni azok hatékonyságát</a:t>
            </a:r>
            <a:r>
              <a:rPr b="1" i="1" lang="en-GB" sz="36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8628-219E-4BBA-8220-0CF4768C40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"/>
          <p:cNvSpPr/>
          <p:nvPr/>
        </p:nvSpPr>
        <p:spPr>
          <a:xfrm>
            <a:off x="914400" y="1268280"/>
            <a:ext cx="7545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A forgalom elemzése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korábbi időszak tényleges forgalmának összevetése a saját elvárásokka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cé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mennyiben negatívak az eredmények, akkor fel kell tenni a kérdést, hogy miért is alakult ez így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forgalom elemzése gyorsan és külön költségek nélkül elvégezhető, mivel a szükséges adatok vállalaton belül rendelkezésre állnak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77FF-F4A7-4E2E-9D65-A24C0B12F2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3"/>
          <p:cNvSpPr/>
          <p:nvPr/>
        </p:nvSpPr>
        <p:spPr>
          <a:xfrm>
            <a:off x="914400" y="1125360"/>
            <a:ext cx="7545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A piaci részesedés elemzése</a:t>
            </a:r>
            <a:r>
              <a:rPr b="1" i="1" lang="de-DE" sz="36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 korábbi id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ő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szak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piaci részesedésének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összevetése a saját elvárásokka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=marketing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cél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)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mennyiben negatívak az eredmények, akkor fel kell tenni a kérdést, hogy miért is alakult ez így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Előnye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 versenyképesség bemutatása azáltal, hogy a saját céget összehasonlítjuk a versenytársakkal.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Hátránya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000" spc="-1" strike="noStrike">
                <a:solidFill>
                  <a:srgbClr val="808080"/>
                </a:solidFill>
                <a:latin typeface="Arial"/>
              </a:rPr>
              <a:t>az összehasonlításhoz szükséges adatokat a cégen kívülről kell megszerezni</a:t>
            </a:r>
            <a:r>
              <a:rPr b="0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r>
              <a:rPr b="0" lang="en-GB" sz="2400" spc="-1" strike="noStrike">
                <a:solidFill>
                  <a:srgbClr val="013c5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13c5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4B9CC-47EC-40E5-9B6A-8DC7933C75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914400" y="1268280"/>
            <a:ext cx="7943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</a:t>
            </a:r>
            <a:r>
              <a:rPr b="1" lang="hu-HU" sz="2800" spc="-1" strike="noStrike">
                <a:solidFill>
                  <a:srgbClr val="808080"/>
                </a:solidFill>
                <a:latin typeface="Arial"/>
              </a:rPr>
              <a:t>z alábbiakra kell figyelmet fordítani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Az idő- és vállalatspecifikus összehasonlításokat vitassuk meg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A célkitűzések legyenek reálisak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Biztosítsunk egy bevezető időszakot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808080"/>
                </a:solidFill>
                <a:latin typeface="Arial"/>
              </a:rPr>
              <a:t>Ne csak a számokat nézzük az összehasonlításkor, hanem értelmezzük is azokat</a:t>
            </a:r>
            <a:r>
              <a:rPr b="0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96C4-CE42-4654-BF52-0582FDF3B4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54D7-B2BE-4CFF-B8A3-94C1D2B0F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808080"/>
                </a:solidFill>
                <a:latin typeface="Arial"/>
              </a:rPr>
              <a:t>Forr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Ingo Rauhut: S4 Modul: Marketing koncepció. </a:t>
            </a: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Westdeutscher Handwerkskammertag (Ed.): A fenntartható fejlődés a kézműiparban. Segédanyag a kézműiparhoz kötődő tanácsadók és trénerek számára készült képzési és tanácsadási koncepció megvalósításához. Ez egy kísérleti projektmunka eredménye: Düsseldorf (Westdeutscher Handwerkskammertag (Hrsg.): CD-ROM: 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www.eurocrafts21.eu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B470-AB96-4004-AB6C-3E7E94BD5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7:05Z</dcterms:modified>
  <cp:revision>99</cp:revision>
  <dc:subject/>
  <dc:title>Kein Folientitel</dc:title>
</cp:coreProperties>
</file>