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F2F4-1D98-4D56-94B9-C92166471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0E07-18F8-43FC-8BF6-64FB55054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FC62-D929-49F4-9A84-627B41B36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2ED7-56C1-4004-83B9-21DB731A20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8243-3D53-4672-838C-3C36AA7EA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2B125-846E-445F-82FF-CE938B4CE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498A-920A-40DD-AFFD-F9775B343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FD2F-5310-4488-8A38-DA8C28C74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0056-CFCE-4965-9C72-A71C1CFA9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549F-C05F-4A43-B02F-D1CE58FAF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1923-7783-4440-8CDC-6939A475C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EDC9E-7016-4AE3-A1B9-F2C5D31D9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C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»Marketing Efficiency Check«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80D8-337B-49FE-952F-ECFB9CFAA7FE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87280" y="3357720"/>
            <a:ext cx="73915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808080"/>
                </a:solidFill>
                <a:latin typeface="Arial"/>
              </a:rPr>
              <a:t>A m</a:t>
            </a: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arketing</a:t>
            </a:r>
            <a:r>
              <a:rPr b="1" lang="hu-HU" sz="3600" spc="-1" strike="noStrike">
                <a:solidFill>
                  <a:srgbClr val="808080"/>
                </a:solidFill>
                <a:latin typeface="Arial"/>
              </a:rPr>
              <a:t> hatékonyságának ellenőrzése</a:t>
            </a: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70" t="25469" r="24397" b="51808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96E2-6849-4DD9-B594-546B85CC9B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8"/>
          <p:cNvSpPr/>
          <p:nvPr/>
        </p:nvSpPr>
        <p:spPr>
          <a:xfrm>
            <a:off x="1042920" y="213372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808080"/>
                </a:solidFill>
                <a:latin typeface="Arial"/>
              </a:rPr>
              <a:t>A m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rketing </a:t>
            </a:r>
            <a:r>
              <a:rPr b="1" i="1" lang="hu-HU" sz="3600" spc="-1" strike="noStrike">
                <a:solidFill>
                  <a:srgbClr val="808080"/>
                </a:solidFill>
                <a:latin typeface="Arial"/>
              </a:rPr>
              <a:t>eljárásokat mindig ellenőriznünk kell, hogy fel tudjuk mérni azok hatékonyságát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7EA8-00C6-48F7-ACC6-465798954F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914400" y="1268280"/>
            <a:ext cx="7545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808080"/>
                </a:solidFill>
                <a:latin typeface="Arial"/>
              </a:rPr>
              <a:t>A forgalom elemzése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A korábbi időszak tényleges forgalmának összevetése a saját elvárásokkal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=marketing 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cél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Amennyiben negatívak az eredmények, akkor fel kell tenni a kérdést, hogy miért is alakult ez így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A forgalom elemzése gyorsan és külön költségek nélkül elvégezhető, mivel a szükséges adatok vállalaton belül rendelkezésre állnak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B2FF-2273-406D-B837-558E5BA94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3"/>
          <p:cNvSpPr/>
          <p:nvPr/>
        </p:nvSpPr>
        <p:spPr>
          <a:xfrm>
            <a:off x="914400" y="1125360"/>
            <a:ext cx="7545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808080"/>
                </a:solidFill>
                <a:latin typeface="Arial"/>
              </a:rPr>
              <a:t>A piaci részesedés elemzése</a:t>
            </a:r>
            <a:r>
              <a:rPr b="1" i="1" lang="de-DE" sz="36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1476360" y="1916280"/>
            <a:ext cx="691200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 korábbi id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zak 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piaci részesedésének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összevetése a saját elvárásokkal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=marketing 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él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mennyiben negatívak az eredmények, akkor fel kell tenni a kérdést, hogy miért is alakult ez így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Előnye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a versenyképesség bemutatása azáltal, hogy a saját céget összehasonlítjuk a versenytársakkal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Hátránya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az összehasonlításhoz szükséges adatokat a cégen kívülről kell megszerezni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13c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4DB5-E39A-4251-8738-CBDAFCF368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914400" y="1268280"/>
            <a:ext cx="7943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</a:t>
            </a:r>
            <a:r>
              <a:rPr b="1" lang="hu-HU" sz="2800" spc="-1" strike="noStrike">
                <a:solidFill>
                  <a:srgbClr val="808080"/>
                </a:solidFill>
                <a:latin typeface="Arial"/>
              </a:rPr>
              <a:t>z alábbiakra kell figyelmet fordítani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476360" y="1916280"/>
            <a:ext cx="684072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Arial"/>
              </a:rPr>
              <a:t>Az idő- és vállalatspecifikus összehasonlításokat vitassuk meg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Arial"/>
              </a:rPr>
              <a:t>A célkitűzések legyenek reálisak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Arial"/>
              </a:rPr>
              <a:t>Biztosítsunk egy bevezető időszakot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Arial"/>
              </a:rPr>
              <a:t>Ne csak a számokat nézzük az összehasonlításkor, hanem értelmezzük is azokat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FA77-37C2-4E87-946F-46F69BF09D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Az Európai Bizottság támogatást nyújtott ennek a projektnek a költségeihez.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Ez a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z előadás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 a szerzõ nézeteit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tükrözi, és az Európai Bizottság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nem tehetõ felelõssé az abban foglaltak bárminemû felhasználásért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z EuroCrafts21 Leonardo da Vinci projekt a Plenum – Egyesület a Holisztikus Fenntartható Fejlődésért és a Faktor 10 Intézet (Ausztria) koordinálja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 projekt célkitűzése az, hogy jelentős hozzáadott értéket teremtsen a szakképzésben Ausztriában és a partnerországokban egyaránt (Finnország, Németország, Szlovákia, Spanyolország és Magyarország)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Ennek elérését egy korábban kidolgozott kísérleti projekttermék innováció transzfere szolgálja. Ez a projekttermék egy átfogó képzési és tanácsadási koncepció a fenntarthatósági menedzsment témakörében, amelyet a németországi Észak-Rajna-Wesztfáliában működő kézműipari szektor vállalkozásai számára kifejlesztettek ki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92D4-537E-4EBD-B82F-3A6A071969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808080"/>
                </a:solidFill>
                <a:latin typeface="Arial"/>
              </a:rPr>
              <a:t>Forrá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13c59"/>
                </a:solidFill>
                <a:latin typeface="Arial"/>
              </a:rPr>
              <a:t>Ingo Rauhut: S4 Modul: Marketing koncepció. </a:t>
            </a: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Westdeutscher Handwerkskammertag (Ed.): A fenntartható fejlődés a kézműiparban. Segédanyag a kézműiparhoz kötődő tanácsadók és trénerek számára készült képzési és tanácsadási koncepció megvalósításához. Ez egy kísérleti projektmunka eredménye: Düsseldorf (Westdeutscher Handwerkskammertag (Hrsg.): CD-ROM: Nachhaltiges Wirtschaften in Handwerksbetrieben. Eine Handreichung zur Durchführung eines Qualifizierungs- und Beratungskonzeptes für Betriebsberater/-innen und Dozenten/-innen im Handwerk. Ergebnisse aus einem Modellversuch, Düsseldorf)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13c59"/>
                </a:solidFill>
                <a:latin typeface="Arial"/>
              </a:rPr>
              <a:t>www.eurocrafts21.eu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8AE0-ADF1-4987-A9D0-9D88849CDA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Dr. Tráser Ferenc</cp:lastModifiedBy>
  <cp:lastPrinted>2005-02-10T15:49:31Z</cp:lastPrinted>
  <dcterms:modified xsi:type="dcterms:W3CDTF">2010-10-07T16:27:05Z</dcterms:modified>
  <cp:revision>99</cp:revision>
  <dc:subject/>
  <dc:title>Kein Folientitel</dc:title>
</cp:coreProperties>
</file>