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10400" cy="983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798360" y="-36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96400" y="738000"/>
            <a:ext cx="4916520" cy="368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934200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798360" y="9342000"/>
            <a:ext cx="2908440" cy="492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F3C8112-DBA2-4454-BAF8-C867C875955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98720" y="9342360"/>
            <a:ext cx="29084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9C2DD8B-CB4E-4798-8794-883BE57DC4A1}" type="slidenum">
              <a:rPr b="0" lang="de-DE" sz="1200" spc="-1" strike="noStrike">
                <a:solidFill>
                  <a:srgbClr val="013c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15080" cy="36874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1040" y="4672080"/>
            <a:ext cx="5365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C14B4-102F-4A25-8B63-53F0C56C5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4619B-6AD7-4B4B-AF56-2FF35C4A5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EF487-33D4-4E1C-B52F-4CD17513C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E1C44-CD5F-463B-82AD-CD4A39A83D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FEEB4-05B7-48BC-ACFF-668A110A9C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BF2D5-7450-4B51-9448-005C412FF0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19819-CBFE-4C21-82A1-B5E6D79BF0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3457E-2C9D-46C0-8578-CDB3E3CB42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FC645-528A-407F-90DF-F70C15BB62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3C7DD-917C-4D80-A40D-925C0B585A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71B2A-F479-4630-919C-2C4797A22D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DFFCA-C949-416F-8BD0-7D52E1A1A2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0E6BB-A07C-46DA-8DB6-333CF3DB60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6DC96-51A6-4EDE-B182-28B6F3E898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1EAA1-B9AB-473D-AE25-925EE5D56E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7CFC7-2A90-42EC-AD27-E11456E28A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C3451-BE44-4F37-B224-CE1CE13E36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F45D4-2025-4290-ADEE-BF858B5E5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34B59-1EC1-486D-BA37-26D137766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0D73E-82C0-40FA-92C9-1038D88F6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352F6-A32C-4907-9276-E5CF340DA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F73E7-6791-478D-9140-5F858A98F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3A661-116A-4FF9-B312-02F5A7563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099A4-F182-4811-A81D-CCF5F6D23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Times New Roman"/>
              </a:rPr>
              <a:t>B1-A1-Sustainable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96A7-B83A-4A68-9B7A-AB2103DE0721}" type="slidenum">
              <a:rPr b="0" lang="de-AT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"/>
          <p:cNvPicPr/>
          <p:nvPr/>
        </p:nvPicPr>
        <p:blipFill>
          <a:blip r:embed="rId3"/>
          <a:stretch/>
        </p:blipFill>
        <p:spPr>
          <a:xfrm>
            <a:off x="490680" y="411120"/>
            <a:ext cx="2757240" cy="488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Times New Roman"/>
              </a:rPr>
              <a:t>B1-A1-Sustainable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0715-4757-4E6A-999B-2B807EEC6171}" type="slidenum">
              <a:rPr b="0" lang="de-AT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office@plenum.at" TargetMode="External"/><Relationship Id="rId2" Type="http://schemas.openxmlformats.org/officeDocument/2006/relationships/hyperlink" Target="http://www.eurocrafts21.eu/" TargetMode="External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80B1-72FF-448A-B847-B4B5372F993E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0" y="258768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808080"/>
                </a:solidFill>
                <a:latin typeface="Arial"/>
              </a:rPr>
              <a:t>Inštitúcie pre manažment trvalej udržateľnosti v Európe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B1 – C3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5" name="Picture 1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891480" y="325440"/>
            <a:ext cx="1866600" cy="754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"/>
          <p:cNvPicPr/>
          <p:nvPr/>
        </p:nvPicPr>
        <p:blipFill>
          <a:blip r:embed="rId2"/>
          <a:srcRect l="25970" t="25469" r="24397" b="51808"/>
          <a:stretch/>
        </p:blipFill>
        <p:spPr>
          <a:xfrm>
            <a:off x="2514600" y="2017800"/>
            <a:ext cx="4114800" cy="1358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13c59"/>
                </a:solidFill>
                <a:latin typeface="Arial"/>
              </a:rPr>
              <a:t>B1-C3 – Inštitúcie pre riadenie trvalej udržateľnosti v Europe</a:t>
            </a:r>
            <a:r>
              <a:rPr b="0" lang="cs-CZ" sz="1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929F-66C3-47D9-BFD5-EE41C4446C5B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11360" y="11685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Wuppertal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 klub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2006280"/>
            <a:ext cx="816624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Založený</a:t>
            </a:r>
            <a:r>
              <a:rPr b="0" lang="de-DE" sz="1800" spc="-1" strike="noStrike">
                <a:solidFill>
                  <a:srgbClr val="013c59"/>
                </a:solidFill>
                <a:latin typeface="Arial"/>
              </a:rPr>
              <a:t> 200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vo</a:t>
            </a:r>
            <a:r>
              <a:rPr b="0" lang="de-DE" sz="1800" spc="-1" strike="noStrike">
                <a:solidFill>
                  <a:srgbClr val="013c59"/>
                </a:solidFill>
                <a:latin typeface="Arial"/>
              </a:rPr>
              <a:t> Wuppertal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13c59"/>
                </a:solidFill>
                <a:latin typeface="Arial"/>
              </a:rPr>
              <a:t>21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zakladateľov z MSP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3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13c59"/>
                </a:solidFill>
                <a:latin typeface="Arial"/>
              </a:rPr>
              <a:t>http://www.club-of-wuppertal.org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1"/>
          <a:stretch/>
        </p:blipFill>
        <p:spPr>
          <a:xfrm>
            <a:off x="6934320" y="4419720"/>
            <a:ext cx="1981080" cy="13874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13c59"/>
                </a:solidFill>
                <a:latin typeface="Arial"/>
              </a:rPr>
              <a:t>B1-C3 – Inštitúcie pre riadenie trvalej udržateľnosti v Europe</a:t>
            </a:r>
            <a:r>
              <a:rPr b="0" lang="cs-CZ" sz="1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8CC3-5E65-401A-9A5B-8FB988E970A2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95360" y="1303200"/>
            <a:ext cx="803592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808080"/>
                </a:solidFill>
                <a:latin typeface="Arial"/>
              </a:rPr>
              <a:t>Kontakt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808080"/>
                </a:solidFill>
                <a:latin typeface="Arial"/>
              </a:rPr>
              <a:t>Holger Rohn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808080"/>
                </a:solidFill>
                <a:latin typeface="Arial"/>
              </a:rPr>
              <a:t>Trifolium - Beratungsgesellschaft mbH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808080"/>
                </a:solidFill>
                <a:latin typeface="Arial"/>
              </a:rPr>
              <a:t>Alte Bahnhofstrasse 13, D-61169 Friedberg, </a:t>
            </a:r>
            <a:r>
              <a:rPr b="1" lang="sk-SK" sz="1400" spc="-1" strike="noStrike">
                <a:solidFill>
                  <a:srgbClr val="808080"/>
                </a:solidFill>
                <a:latin typeface="Arial"/>
              </a:rPr>
              <a:t>SRN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k-SK" sz="1400" spc="-1" strike="noStrike">
                <a:solidFill>
                  <a:srgbClr val="808080"/>
                </a:solidFill>
                <a:latin typeface="Arial"/>
              </a:rPr>
              <a:t>Tel</a:t>
            </a:r>
            <a:r>
              <a:rPr b="1" lang="de-AT" sz="1400" spc="-1" strike="noStrike">
                <a:solidFill>
                  <a:srgbClr val="808080"/>
                </a:solidFill>
                <a:latin typeface="Arial"/>
              </a:rPr>
              <a:t>: +49 6031 68754 64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808080"/>
                </a:solidFill>
                <a:latin typeface="Arial"/>
              </a:rPr>
              <a:t>email:</a:t>
            </a:r>
            <a:r>
              <a:rPr b="1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de-AT" sz="1400" spc="-1" strike="noStrike" u="sng">
                <a:solidFill>
                  <a:srgbClr val="bc956e"/>
                </a:solidFill>
                <a:uFillTx/>
                <a:latin typeface="Arial"/>
                <a:hlinkClick r:id="rId1"/>
              </a:rPr>
              <a:t>info@trifolium.org</a:t>
            </a:r>
            <a:r>
              <a:rPr b="1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de-AT" sz="1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Web:</a:t>
            </a: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bc956e"/>
                </a:solidFill>
                <a:uFillTx/>
                <a:latin typeface="Arial"/>
                <a:hlinkClick r:id="rId2"/>
              </a:rPr>
              <a:t>www.eurocrafts21.eu</a:t>
            </a: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Tento projekt je realizovaný za finančnej podpory Európskej komisie. Táto publikácia vyjadruje iba názory autora a komisia nemôže byť zodpovedná za akékoľvek použitie  informácií v ňom obsiahnutých.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Leonardo da Vinci projekt Euro Crafts 21 sa realizuje pod vedením pléna - spoločnosť pre komplexné udržateľného rozvoja a Faktor 10 Inštitút Rakúsko. Cieľom projektu je vytvoriť značnú pridanú hodnotu v oblasti odborného vzdelávania v Rakúsku a zúčastnených partnerských krajinách (Fínsko, Nemecko, Slovensko, Španielsko a Maďarsko). Toto sa dosiahne prostredníctvom inovácie, prevod už dokončeného pilotného projektu - cieľom vývoja a testovania kvalifikačnej a poradenskej koncepcie udržateľného hospodárenia v remeselnom sektore Severné Porýnie-Vestfálsko (Nemecko).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C510-2896-4101-A914-FE9A6CC877E4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808080"/>
                </a:solidFill>
                <a:latin typeface="Arial"/>
              </a:rPr>
              <a:t>Zdroj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Lemken, Thomas; Rohn, Holger </a:t>
            </a: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v spolupráci s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 Claudia Kaiser, Ina Schäfer, Anna Bliesner, Kristin Parlow: Module B1 Sustainable Development. Westdeutscher Handwerkskammertag (Ed.): Sustainable Management in crafts enterprises. A manual for the implementation of a qualification and consulting concept made for consultants and teachers in the crafts sector. Results from a pilot project, Düsseldorf (Nachhaltiges Wirtschaften in Handwerksbetrieben. Eine Handreichung zur Durchführung eines Qualifizierungs- und Beratungskonzeptes für Betriebsberater/-innen und Dozenten/-innen im Handwerk. Ergebnisse aus einem Modellversuch, Düsseldorf).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Preklad a slovenská adaptácia: Ján Václav a Lubica Žovincová, Trenčianska regionálna komora SOPK, Trenčín.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51" name="Bild 4" descr=""/>
          <p:cNvPicPr/>
          <p:nvPr/>
        </p:nvPicPr>
        <p:blipFill>
          <a:blip r:embed="rId1"/>
          <a:stretch/>
        </p:blipFill>
        <p:spPr>
          <a:xfrm>
            <a:off x="4565520" y="3422520"/>
            <a:ext cx="12960" cy="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Ďakujeme za pozornosť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771560"/>
            <a:ext cx="66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9933"/>
                </a:solidFill>
                <a:uFillTx/>
                <a:latin typeface="Arial"/>
              </a:rPr>
              <a:t>http://www.eurocrafts21.eu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Trenčianska regionálna komora SOP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Jilemnického 2, Trenčín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Tel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: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032-6525797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E-Mail: </a:t>
            </a:r>
            <a:r>
              <a:rPr b="0" lang="sk-SK" sz="1800" spc="-1" strike="noStrike" u="sng">
                <a:solidFill>
                  <a:srgbClr val="0066ff"/>
                </a:solidFill>
                <a:uFillTx/>
                <a:latin typeface="Arial"/>
              </a:rPr>
              <a:t>sopkrktn@sopk.s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Internet: </a:t>
            </a:r>
            <a:r>
              <a:rPr b="0" lang="sk-SK" sz="1800" spc="-1" strike="noStrike" u="sng">
                <a:solidFill>
                  <a:srgbClr val="0066ff"/>
                </a:solidFill>
                <a:uFillTx/>
                <a:latin typeface="Arial"/>
              </a:rPr>
              <a:t>www.komora.nam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85720" y="1878120"/>
            <a:ext cx="2313000" cy="1538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796000" y="4076640"/>
            <a:ext cx="252108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13c59"/>
                </a:solidFill>
                <a:latin typeface="Arial"/>
              </a:rPr>
              <a:t>B1-C3 – Inštitúcie pre riadenie trvalej udržateľnosti v Europe</a:t>
            </a:r>
            <a:r>
              <a:rPr b="0" lang="cs-CZ" sz="1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0AAF-4DDD-4EB2-A574-48746C2B7064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711360" y="11685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Inštitúcie a iniciatívy ktoré...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1" name="Textfeld 6"/>
          <p:cNvSpPr/>
          <p:nvPr/>
        </p:nvSpPr>
        <p:spPr>
          <a:xfrm>
            <a:off x="756000" y="1994040"/>
            <a:ext cx="5441040" cy="21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13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sú sieťou spoločností a podnikateľov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13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tvoria platformu pre firmy a verejnosť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13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rozvíjajú a implementujú koncepciu MSP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13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podporujú regionálne MSP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13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umožňujú otvorený dialóg s politikmi a verejnosťo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013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02" name="Picture 3" descr="PICT0007"/>
          <p:cNvPicPr/>
          <p:nvPr/>
        </p:nvPicPr>
        <p:blipFill>
          <a:blip r:embed="rId1"/>
          <a:stretch/>
        </p:blipFill>
        <p:spPr>
          <a:xfrm>
            <a:off x="3035160" y="3805200"/>
            <a:ext cx="2362320" cy="1986120"/>
          </a:xfrm>
          <a:prstGeom prst="rect">
            <a:avLst/>
          </a:prstGeom>
          <a:ln w="0">
            <a:noFill/>
          </a:ln>
        </p:spPr>
      </p:pic>
      <p:sp>
        <p:nvSpPr>
          <p:cNvPr id="103" name="Textfeld 8"/>
          <p:cNvSpPr/>
          <p:nvPr/>
        </p:nvSpPr>
        <p:spPr>
          <a:xfrm>
            <a:off x="3624840" y="579132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3c59"/>
                </a:solidFill>
                <a:latin typeface="Arial"/>
              </a:rPr>
              <a:t>Source: Pixelio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5D2A-7A73-413D-853E-87A3FAEDF472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5800" y="11811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INEM – International Network for Environmental Management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440" y="2120760"/>
            <a:ext cx="800100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Založená in 1991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Svetová federácia neziskových národných podnikateľských  asociácií pre environmentálny manažment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30 členských asociácií, centrá čistej výroby v 25 štátoch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183360" y="3925800"/>
            <a:ext cx="1754280" cy="625680"/>
          </a:xfrm>
          <a:prstGeom prst="rect">
            <a:avLst/>
          </a:prstGeom>
          <a:ln w="0">
            <a:noFill/>
          </a:ln>
        </p:spPr>
      </p:pic>
      <p:sp>
        <p:nvSpPr>
          <p:cNvPr id="108" name="Rechteck 9"/>
          <p:cNvSpPr/>
          <p:nvPr/>
        </p:nvSpPr>
        <p:spPr>
          <a:xfrm>
            <a:off x="6501240" y="502272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13c59"/>
                </a:solidFill>
                <a:latin typeface="Calibri"/>
              </a:rPr>
              <a:t>www.inem.org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13c59"/>
                </a:solidFill>
                <a:latin typeface="Arial"/>
              </a:rPr>
              <a:t>B1-C3 – Inštitúcie pre riadenie trvalej udržateľnosti v Europe</a:t>
            </a:r>
            <a:r>
              <a:rPr b="0" lang="cs-CZ" sz="1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F58D-6EF2-4559-8082-086CA4B6B680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11360" y="11685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CSR Europe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440" y="1638360"/>
            <a:ext cx="80010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Európska podnikateľská sieť pre Podnikovú sociálnu  zodpovednosť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Založená v roku1995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75 nadnárodných spoločností a 27 národných partnerských organizácií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113" name="Gruppierung 10"/>
          <p:cNvGrpSpPr/>
          <p:nvPr/>
        </p:nvGrpSpPr>
        <p:grpSpPr>
          <a:xfrm>
            <a:off x="6907320" y="4368960"/>
            <a:ext cx="1623960" cy="1599480"/>
            <a:chOff x="6907320" y="4368960"/>
            <a:chExt cx="1623960" cy="1599480"/>
          </a:xfrm>
        </p:grpSpPr>
        <p:pic>
          <p:nvPicPr>
            <p:cNvPr id="114" name="Picture 2" descr=""/>
            <p:cNvPicPr/>
            <p:nvPr/>
          </p:nvPicPr>
          <p:blipFill>
            <a:blip r:embed="rId1"/>
            <a:stretch/>
          </p:blipFill>
          <p:spPr>
            <a:xfrm>
              <a:off x="6995160" y="4368960"/>
              <a:ext cx="1399320" cy="12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hteck 4"/>
            <p:cNvSpPr/>
            <p:nvPr/>
          </p:nvSpPr>
          <p:spPr>
            <a:xfrm>
              <a:off x="6907320" y="5661360"/>
              <a:ext cx="162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13c59"/>
                  </a:solidFill>
                  <a:latin typeface="Calibri"/>
                </a:rPr>
                <a:t>www.csreurope.org</a:t>
              </a:r>
              <a:endParaRPr b="0" lang="en-US" sz="14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116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13c59"/>
                </a:solidFill>
                <a:latin typeface="Arial"/>
              </a:rPr>
              <a:t>B1-C3 – Inštitúcie pre riadenie trvalej udržateľnosti v Europe</a:t>
            </a:r>
            <a:r>
              <a:rPr b="0" lang="cs-CZ" sz="1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5800" y="1638360"/>
            <a:ext cx="802944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51"/>
              </a:spcBef>
              <a:spcAft>
                <a:spcPts val="601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Európska asociácia živností, MSP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spcAft>
                <a:spcPts val="601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Nezisková organizáci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spcAft>
                <a:spcPts val="601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Zastrešuje 85 členských organizácií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spcAft>
                <a:spcPts val="601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Reprezentuje 12 milión podnikov v Európe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349"/>
              </a:spcBef>
              <a:spcAft>
                <a:spcPts val="601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13c59"/>
                </a:solidFill>
                <a:latin typeface="Arial"/>
              </a:rPr>
              <a:t>http://www.ueapme.com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AA5C-0D4D-4997-AEB9-43C8304C1711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11360" y="11685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UEAPME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20" name="Bild 10" descr="Bild 10.png"/>
          <p:cNvPicPr/>
          <p:nvPr/>
        </p:nvPicPr>
        <p:blipFill>
          <a:blip r:embed="rId1"/>
          <a:stretch/>
        </p:blipFill>
        <p:spPr>
          <a:xfrm>
            <a:off x="3746520" y="5343480"/>
            <a:ext cx="1447920" cy="6634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13c59"/>
                </a:solidFill>
                <a:latin typeface="Arial"/>
              </a:rPr>
              <a:t>B1-C3 – Inštitúcie pre riadenie trvalej udržateľnosti v Europe</a:t>
            </a:r>
            <a:r>
              <a:rPr b="0" lang="cs-CZ" sz="1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ED7B-2AD8-4D5A-9932-82FF20359F62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711360" y="11685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GEMI – Global Environmental Management Initiative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440" y="1638360"/>
            <a:ext cx="80010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Založená 1990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Organizácia hlavných inštitúcii podporujúcich environmentálnu, zdravotnú a bezpečnostnú (EHS) a udržateľnú excelenci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22 členských podnikov z viac ako 15 sektorov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13c59"/>
                </a:solidFill>
                <a:latin typeface="Arial"/>
              </a:rPr>
              <a:t>www.gemi.org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5207040" y="4686480"/>
            <a:ext cx="3670200" cy="7444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13c59"/>
                </a:solidFill>
                <a:latin typeface="Arial"/>
              </a:rPr>
              <a:t>B1-C3 – Inštitúcie pre riadenie trvalej udržateľnosti v Europe</a:t>
            </a:r>
            <a:r>
              <a:rPr b="0" lang="cs-CZ" sz="1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C3-Institutions for Sustainable Management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4182-D13A-4E67-945D-67CA297C34FF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711360" y="11685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Efektívny podnikateľ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440" y="1638360"/>
            <a:ext cx="80010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13c59"/>
                </a:solidFill>
                <a:latin typeface="Arial"/>
              </a:rPr>
              <a:t>W</a:t>
            </a:r>
            <a:r>
              <a:rPr b="0" lang="de-DE" sz="1800" spc="-1" strike="noStrike">
                <a:solidFill>
                  <a:srgbClr val="013c59"/>
                </a:solidFill>
                <a:latin typeface="Arial"/>
              </a:rPr>
              <a:t>ebsite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s praktickými radami o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51"/>
              </a:spcBef>
              <a:buClr>
                <a:srgbClr val="63636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Redukcii nákladov</a:t>
            </a:r>
            <a:r>
              <a:rPr b="0" lang="de-DE" sz="1800" spc="-1" strike="noStrike">
                <a:solidFill>
                  <a:srgbClr val="013c59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lvl="1" marL="801720" indent="-266760">
              <a:spcBef>
                <a:spcPts val="451"/>
              </a:spcBef>
              <a:buClr>
                <a:srgbClr val="63636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Raste produktivity</a:t>
            </a:r>
            <a:r>
              <a:rPr b="0" lang="de-DE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lvl="1" marL="801720" indent="-266760">
              <a:spcBef>
                <a:spcPts val="451"/>
              </a:spcBef>
              <a:buClr>
                <a:srgbClr val="63636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Bezpečných klientoch</a:t>
            </a:r>
            <a:r>
              <a:rPr b="0" lang="de-DE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marL="266760" indent="-26676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3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13c59"/>
                </a:solidFill>
                <a:latin typeface="Arial"/>
              </a:rPr>
              <a:t>http://www.effizient-wirtschaften.de/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31" name="Bild 9" descr=""/>
          <p:cNvPicPr/>
          <p:nvPr/>
        </p:nvPicPr>
        <p:blipFill>
          <a:blip r:embed="rId1"/>
          <a:stretch/>
        </p:blipFill>
        <p:spPr>
          <a:xfrm>
            <a:off x="2019240" y="5094360"/>
            <a:ext cx="547380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C3-Institutions for Sustainable Management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7563-A2B1-4C03-A045-C215DB2C4853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711360" y="11685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ECAP –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Program environmentálneho súladu pre MSP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2006280"/>
            <a:ext cx="816624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„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Malí, čistí a konkurencieschopní“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Program Európskej komisi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3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13c59"/>
                </a:solidFill>
                <a:latin typeface="Arial"/>
              </a:rPr>
              <a:t>http://ec.europa.eu/environment/sme/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36" name="Bild 9" descr=""/>
          <p:cNvPicPr/>
          <p:nvPr/>
        </p:nvPicPr>
        <p:blipFill>
          <a:blip r:embed="rId1"/>
          <a:stretch/>
        </p:blipFill>
        <p:spPr>
          <a:xfrm>
            <a:off x="6546960" y="3560760"/>
            <a:ext cx="2394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B1-C3-Institutions for Sustainable Management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638E-A4E0-4A79-830D-F83D8A9199AF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11360" y="11685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UNEP –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Národné centrá čistej produkcie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06280"/>
            <a:ext cx="816624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Od roku</a:t>
            </a:r>
            <a:r>
              <a:rPr b="0" lang="de-DE" sz="1800" spc="-1" strike="noStrike">
                <a:solidFill>
                  <a:srgbClr val="013c59"/>
                </a:solidFill>
                <a:latin typeface="Arial"/>
              </a:rPr>
              <a:t> 1994 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podporené </a:t>
            </a:r>
            <a:r>
              <a:rPr b="0" lang="de-DE" sz="1800" spc="-1" strike="noStrike">
                <a:solidFill>
                  <a:srgbClr val="013c59"/>
                </a:solidFill>
                <a:latin typeface="Arial"/>
              </a:rPr>
              <a:t>UNEP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a</a:t>
            </a:r>
            <a:r>
              <a:rPr b="0" lang="de-DE" sz="1800" spc="-1" strike="noStrike">
                <a:solidFill>
                  <a:srgbClr val="013c59"/>
                </a:solidFill>
                <a:latin typeface="Arial"/>
              </a:rPr>
              <a:t> UNIDO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celosvetovo</a:t>
            </a:r>
            <a:r>
              <a:rPr b="0" lang="de-DE" sz="1800" spc="-1" strike="noStrike">
                <a:solidFill>
                  <a:srgbClr val="013c59"/>
                </a:solidFill>
                <a:latin typeface="Arial"/>
              </a:rPr>
              <a:t> 40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centier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V rozvojových krajinách a tranzitívnych ekonomikách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3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13c59"/>
                </a:solidFill>
                <a:latin typeface="Arial"/>
              </a:rPr>
              <a:t>http://www.unep.fr/scp/cp/network/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41" name="Bild 11" descr="LogoUnep.gif"/>
          <p:cNvPicPr/>
          <p:nvPr/>
        </p:nvPicPr>
        <p:blipFill>
          <a:blip r:embed="rId1"/>
          <a:stretch/>
        </p:blipFill>
        <p:spPr>
          <a:xfrm>
            <a:off x="5676840" y="4451400"/>
            <a:ext cx="11811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09:46:09Z</dcterms:created>
  <dc:creator>monika</dc:creator>
  <dc:description/>
  <dc:language>en-US</dc:language>
  <cp:lastModifiedBy>Vaclav</cp:lastModifiedBy>
  <dcterms:modified xsi:type="dcterms:W3CDTF">2010-10-19T08:17:55Z</dcterms:modified>
  <cp:revision>332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41841754</vt:r8>
  </property>
  <property fmtid="{D5CDD505-2E9C-101B-9397-08002B2CF9AE}" pid="3" name="_AuthorEmail">
    <vt:lpwstr>manstein@chello.at</vt:lpwstr>
  </property>
  <property fmtid="{D5CDD505-2E9C-101B-9397-08002B2CF9AE}" pid="4" name="_AuthorEmailDisplayName">
    <vt:lpwstr>Dipl. Ing. Christopher Manstein</vt:lpwstr>
  </property>
  <property fmtid="{D5CDD505-2E9C-101B-9397-08002B2CF9AE}" pid="5" name="_EmailSubject">
    <vt:lpwstr>EC21 Tool - B1-C</vt:lpwstr>
  </property>
  <property fmtid="{D5CDD505-2E9C-101B-9397-08002B2CF9AE}" pid="6" name="_ReviewingToolsShownOnce">
    <vt:lpwstr/>
  </property>
</Properties>
</file>