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33A9D8E-FC66-40AD-BDEF-6828855CE59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98720" y="9342360"/>
            <a:ext cx="290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F97C627-90E7-458D-88E1-3E92880F22D4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5319-8C75-41D0-A03D-D2F028525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A4D7-0B19-4E0E-9FB9-7503BB84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5013-A34C-4DDB-BB95-E0B764549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D0B2-18B3-4F7C-BF31-35F06C6F1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4EBFC-C2D0-4DBB-BC56-BBA0066FD0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08AD2-3FBA-4ADA-B2A5-F05A98B0A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DE99-5EE6-4EA9-A039-39D5823EC1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013F-F04F-41D0-BBAE-913CF1EC50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E9AFE-EB59-4EA0-B8F5-16FCB60A71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71FE-2390-4E4C-9373-FA22B87D4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D7C5C-D071-451B-AF4C-88CDDFFE6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549B-8886-4793-973A-6321977DD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92E80-056F-421B-A9F6-D78EDCA64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80DC9-33A0-4008-AEDB-278A32EE63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08D0E-D103-4C45-AAED-4CDEA313A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01F5A-B6A9-4E59-940A-139362858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401D-CBA9-43BF-A5C4-6B26C0124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C24B-66FB-4F53-B4FA-F17949665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F5C4-A35A-4083-8A0E-758A0837B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5DA9-7D3E-4AD6-8DB7-193BFD44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0F09-FB20-41A0-8856-9B047C1C7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0D04-8B82-400A-B033-A48F91131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4497-F861-473D-8D02-86C29F34C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22B7-9CA9-48F2-A527-0163B1651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Sustainabl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712-0441-4563-8C6D-42F23B2C275F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Sustainabl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0952-B1D3-4D5A-83A8-5509DCF41973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office@plenum.at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01F-BF89-4D8A-ADA9-C3621FA1C8F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25876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Inštitúcie pre manažment trvalej udržateľnosti v Európe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1 – C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13A-EF14-4BDE-9D96-A13C78A7D29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uppertal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 klub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ý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200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o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Wuppertal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21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kladateľov z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club-of-wuppertal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3A93-CEB6-4B6F-AF1C-B087D30F3A5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Kontak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Holger Roh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Trifolium - Beratungsgesellschaft mbH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Alte Bahnhofstrasse 13, D-61169 Friedberg, </a:t>
            </a:r>
            <a:r>
              <a:rPr b="1" lang="sk-SK" sz="1400" spc="-1" strike="noStrike">
                <a:solidFill>
                  <a:srgbClr val="808080"/>
                </a:solidFill>
                <a:latin typeface="Arial"/>
              </a:rPr>
              <a:t>SR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400" spc="-1" strike="noStrike">
                <a:solidFill>
                  <a:srgbClr val="808080"/>
                </a:solidFill>
                <a:latin typeface="Arial"/>
              </a:rPr>
              <a:t>Tel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: +49 6031 68754 64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email: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info@trifolium.org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eb: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www.eurocrafts21.eu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Tento projekt je realizovaný za finančnej podpory Európskej komisie. Táto publikácia vyjadruje iba názory autora a komisia nemôže byť zodpovedná za akékoľvek použitie  informácií v ňom obsiahnutých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Leonardo da Vinci projekt Euro Crafts 21 sa realizuje pod vedením pléna - spoločnosť pre komplexné udržateľného rozvoja a Faktor 10 Inštitút Rakúsko. Cieľom projektu je vytvoriť značnú pridanú hodnotu v oblasti odborného vzdelávania v Rakúsku a zúčastnených partnerských krajinách (Fínsko, Nemecko, Slovensko, Španielsko a Maďarsko). Toto sa dosiahne prostredníctvom inovácie, prevod už dokončeného pilotného projektu - cieľom vývoja a testovania kvalifikačnej a poradenskej koncepcie udržateľného hospodárenia v remeselnom sektore Severné Porýnie-Vestfálsko (Nemecko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98F-6283-4EA0-8FF5-FFC5AC1302A0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Lemken, Thomas; Rohn, Holger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v spolupráci s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Claudia Kaiser, Ina Schäfer, Anna Bliesner, Kristin Parlow: Module B1 Sustainable Development. Westdeutscher Handwerkskammertag (Ed.): Sustainable Management in crafts enterprises. A manual for the implementation of a qualification and consulting concept made for consultants and teachers in the crafts sector. Results from a pilot project, Düsseldorf (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Preklad a slovenská adaptácia: Ján Václav a Lubica Žovincová, Trenčianska regionálna komora SOPK, Trenčín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1" name="Bild 4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2, Trenčí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el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2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98A-A248-497B-8D91-D6E7292E26F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Inštitúcie a iniciatívy ktoré..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Textfeld 6"/>
          <p:cNvSpPr/>
          <p:nvPr/>
        </p:nvSpPr>
        <p:spPr>
          <a:xfrm>
            <a:off x="756000" y="1994040"/>
            <a:ext cx="54410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ú sieťou spoločností a podnikateľo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voria platformu pre firmy a verej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ozvíjajú a implementujú koncepciu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odporujú regionálne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umožňujú otvorený dialóg s politikmi a verejnosťo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2" name="Picture 3" descr="PICT0007"/>
          <p:cNvPicPr/>
          <p:nvPr/>
        </p:nvPicPr>
        <p:blipFill>
          <a:blip r:embed="rId1"/>
          <a:stretch/>
        </p:blipFill>
        <p:spPr>
          <a:xfrm>
            <a:off x="3035160" y="3805200"/>
            <a:ext cx="2362320" cy="198612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8"/>
          <p:cNvSpPr/>
          <p:nvPr/>
        </p:nvSpPr>
        <p:spPr>
          <a:xfrm>
            <a:off x="3624840" y="57913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Source: Pixeli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2BB1-799B-41FA-81E3-E8A06452045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5800" y="11811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INEM – International Network for Environmental Management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2120760"/>
            <a:ext cx="8001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Založená in 1991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vetová federácia neziskových národných podnikateľských  asociácií pre environmentálny manažme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30 členských asociácií, centrá čistej výroby v 25 štáto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183360" y="3925800"/>
            <a:ext cx="1754280" cy="625680"/>
          </a:xfrm>
          <a:prstGeom prst="rect">
            <a:avLst/>
          </a:prstGeom>
          <a:ln w="0">
            <a:noFill/>
          </a:ln>
        </p:spPr>
      </p:pic>
      <p:sp>
        <p:nvSpPr>
          <p:cNvPr id="108" name="Rechteck 9"/>
          <p:cNvSpPr/>
          <p:nvPr/>
        </p:nvSpPr>
        <p:spPr>
          <a:xfrm>
            <a:off x="6501240" y="5022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Calibri"/>
              </a:rPr>
              <a:t>www.inem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DF13-2A71-4CBF-B936-79E2FF8196C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SR Europ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urópska podnikateľská sieť pre Podnikovú sociálnu  zodpovednosť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á v roku1995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75 nadnárodných spoločností a 27 národných partnerských organiz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3" name="Gruppierung 10"/>
          <p:cNvGrpSpPr/>
          <p:nvPr/>
        </p:nvGrpSpPr>
        <p:grpSpPr>
          <a:xfrm>
            <a:off x="6907320" y="4368960"/>
            <a:ext cx="1623960" cy="1599480"/>
            <a:chOff x="6907320" y="4368960"/>
            <a:chExt cx="1623960" cy="159948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6995160" y="4368960"/>
              <a:ext cx="139932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hteck 4"/>
            <p:cNvSpPr/>
            <p:nvPr/>
          </p:nvSpPr>
          <p:spPr>
            <a:xfrm>
              <a:off x="6907320" y="5661360"/>
              <a:ext cx="162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13c59"/>
                  </a:solidFill>
                  <a:latin typeface="Calibri"/>
                </a:rPr>
                <a:t>www.csreurope.org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1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1638360"/>
            <a:ext cx="802944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urópska asociácia živností,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ezisková organizá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strešuje 85 členských organiz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eprezentuje 12 milión podnikov v Európ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http://www.ueapme.com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BA68-B001-41D4-9AFB-E4235858F35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UEAPM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0" name="Bild 10" descr="Bild 10.png"/>
          <p:cNvPicPr/>
          <p:nvPr/>
        </p:nvPicPr>
        <p:blipFill>
          <a:blip r:embed="rId1"/>
          <a:stretch/>
        </p:blipFill>
        <p:spPr>
          <a:xfrm>
            <a:off x="3746520" y="5343480"/>
            <a:ext cx="1447920" cy="663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4163-8B7C-4A5E-AD28-ADAA7384AF8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GEMI – Global Environmental Management Initiativ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á 1990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rganizácia hlavných inštitúcii podporujúcich environmentálnu, zdravotnú a bezpečnostnú (EHS) a udržateľnú excelenci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22 členských podnikov z viac ako 15 sektoro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www.gemi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207040" y="4686480"/>
            <a:ext cx="3670200" cy="744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323-BB8F-4CC8-B31C-C63CAC6F62D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Efektívny podnikateľ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W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ebsite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 praktickými radami 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edukcii nákladov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aste produktivity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Bezpečných klientoch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effizient-wirtschaften.de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1" name="Bild 9" descr=""/>
          <p:cNvPicPr/>
          <p:nvPr/>
        </p:nvPicPr>
        <p:blipFill>
          <a:blip r:embed="rId1"/>
          <a:stretch/>
        </p:blipFill>
        <p:spPr>
          <a:xfrm>
            <a:off x="2019240" y="5094360"/>
            <a:ext cx="54738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E3DF-6E66-4B3E-A243-BD2FA35251D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11360" y="11685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ECAP –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ogram environmentálneho súladu pre MS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Malí, čistí a konkurencieschopní“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ogram Európskej komisi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http://ec.europa.eu/environment/sme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6" name="Bild 9" descr=""/>
          <p:cNvPicPr/>
          <p:nvPr/>
        </p:nvPicPr>
        <p:blipFill>
          <a:blip r:embed="rId1"/>
          <a:stretch/>
        </p:blipFill>
        <p:spPr>
          <a:xfrm>
            <a:off x="6546960" y="3560760"/>
            <a:ext cx="239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1D57-A1D1-4569-90E6-CED94C3E3A3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UNEP –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árodné centrá čistej produkci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d roku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1994 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odporené 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UNEP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UNID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elosvetovo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40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entie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 rozvojových krajinách a tranzitívnych ekonomiká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unep.fr/scp/cp/network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1" name="Bild 11" descr="LogoUnep.gif"/>
          <p:cNvPicPr/>
          <p:nvPr/>
        </p:nvPicPr>
        <p:blipFill>
          <a:blip r:embed="rId1"/>
          <a:stretch/>
        </p:blipFill>
        <p:spPr>
          <a:xfrm>
            <a:off x="5676840" y="4451400"/>
            <a:ext cx="11811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9:46:09Z</dcterms:created>
  <dc:creator>monika</dc:creator>
  <dc:description/>
  <dc:language>en-US</dc:language>
  <cp:lastModifiedBy>Vaclav</cp:lastModifiedBy>
  <dcterms:modified xsi:type="dcterms:W3CDTF">2010-10-19T08:17:55Z</dcterms:modified>
  <cp:revision>33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1841754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EC21 Tool - B1-C</vt:lpwstr>
  </property>
  <property fmtid="{D5CDD505-2E9C-101B-9397-08002B2CF9AE}" pid="6" name="_ReviewingToolsShownOnce">
    <vt:lpwstr/>
  </property>
</Properties>
</file>