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D476-677F-40C9-AFEB-0A6D284FF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CDAE-2A58-4919-90DB-15A1B4B46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160D5-69C6-4A33-90BD-F13A07824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BC500-DA7A-4E13-AE53-01D91699F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657DF-EDC8-4245-B44A-6118DB803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3C099-35C5-4F79-8C71-21860E488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FAE9-4D12-4E4C-A5A7-046501672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67BE-1CCA-4FE0-9B77-D8DA14113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93A7-1109-4AE2-BD4C-B8C190D4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09180-F4AE-4712-AD3F-66848B54A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3620F-E158-4FEE-9E5F-0DB917810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5ACF8-AB79-4646-8961-03DB8F4B3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C71ECA45-8B27-4759-A2A2-C80272C414B3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45000" y="20606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KLASTR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D213-470A-4016-A724-9FF943D3F3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CFE6-2278-41AE-BFA5-77DC619595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37AF-D8DA-4996-852B-845CE79010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E2479-8050-4C4D-8DA2-CF0330E3A9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A9E5-0437-457E-BAAB-F320C80591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F52D-5A2C-41EA-AF9D-6DCD5B24F1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3257-B307-4CB7-80E4-7B5F3A8830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ADC1F-B803-410D-9446-A577436E30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9B01-0AFC-4231-AD51-A0CD609954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80F50-080B-4892-BC91-5C01D73F90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D13F-1A59-47D3-BDB5-56E2F589A5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7621-3121-4151-B8E1-79A394777D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8E64-6F60-4B12-AEBB-BE4EAD8CBF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79B6-FDB5-4AE0-85EC-1163DEB114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10-10T14:39:37Z</dcterms:modified>
  <cp:revision>784</cp:revision>
  <dc:subject/>
  <dc:title>Euro Crafts 21</dc:title>
</cp:coreProperties>
</file>