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CFF4-1831-47B5-AF4E-B406E0C44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3648-C5E2-4E73-8364-B010D2009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FC00-A0E0-4356-BD3A-3C03E3A11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A82E-55E7-4FB0-8060-1E5D51369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E068-721A-479C-8F48-878D9030F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B7D4E-6D45-4C3A-BDF0-5067764D6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B98A-9F52-4A30-BD28-8719A6FEF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352F-0ADA-4B64-A35C-089655A85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072E-9E90-4667-8F18-7E0237882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881B-2512-4093-9773-098D0EF8D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8AED-01B1-4ACB-8359-62CF29C76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CF46-EBBF-4FBE-B922-E84D38009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EB842441-2B1B-4487-ADB2-A0D4C18A77BE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45000" y="20606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KLASTR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8971-BAD3-4A5E-A615-8A380CE309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5632-F3E6-4C01-A3AE-2B6E0B0D67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0F43-49D5-4D6F-B378-C83AF6FCAC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F610-1839-4DF5-AF8F-0423CE9D01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8EDD7-F326-4410-9529-05D6B1E43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3393-8122-4277-9ED2-8F95A43FA6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7B13-D478-424C-B09B-2BE6F97D72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460D-148B-429B-ABED-A05E52555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5E65-CD09-4ABC-B618-92C7D9090F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7FC4-4B14-4554-94A9-A71C1DDA10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EEE9-C872-4506-A5C3-EEC31AF41D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3529-336B-4C96-84A7-3B8A8B943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2698-CBA1-4F6B-A4FC-45FCAA661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9968-AFB5-4694-A673-B099D5A459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9:37Z</dcterms:modified>
  <cp:revision>784</cp:revision>
  <dc:subject/>
  <dc:title>Euro Crafts 21</dc:title>
</cp:coreProperties>
</file>