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293D3-E1B1-4D6A-AD41-D0EE97074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2C126-8548-4187-A2E0-E503622A4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B1A72-2864-454A-AC24-1B21C6C48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5C53A-07F1-4E87-9FE2-5C102AD25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0131A-EA3D-4C74-88CC-9C71FC7258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1BA3D-0674-4638-842E-B9DFC2C70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493C1-EE3F-4B6E-AAC9-E98132599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B45F5-919A-4B42-B0F3-69D0779EF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46658-37D2-4D9F-BA3F-9421DD985E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14815-A0DA-46BF-A039-D5A4B2C6E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F63DE-32CA-4658-8059-F3B1107FB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251ED-0317-44A4-A4A7-48052CEDC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C1E819A9-24F8-4F7B-80BB-5783564D5D13}" type="slidenum">
              <a:rPr b="0" lang="en-US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60680" y="2060640"/>
            <a:ext cx="39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136f0"/>
                </a:solidFill>
                <a:latin typeface="Arial"/>
              </a:rPr>
              <a:t>OTVORENÁ INOVÁCIA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87280" y="4365720"/>
            <a:ext cx="6767640" cy="234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70ABE-0BCF-4C92-AC41-D1044A5D02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A240D-BF39-41FC-B4BB-972D5BF1B4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573B6-5080-4950-83D9-1E75537DD1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05E37-506C-4864-9552-4C2F770BDB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F47FB-DF54-4D73-9F54-6BC8250567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1ABE8-3E65-40BF-9A00-98621AB9BD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8219E-A966-4334-8E51-48DB13ECA9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911A1-62B5-452F-963A-298911E9CB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7227B-10FD-4A4A-821C-A84DB6AE52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76749-DA42-40A5-A4A4-8B9B25F134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067B0-A519-4BC2-848F-11964A99FA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92FD0-AF93-44B4-BEF7-00D891EFDC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4F338-5A29-4ED0-BD6B-845B7C9526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172B5-6C0A-4612-AB29-721481B853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DBEF4-F58C-4E68-A821-E4D74D7759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21CEC-5D20-495C-ABE3-7607BF4047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Vaclav</cp:lastModifiedBy>
  <dcterms:modified xsi:type="dcterms:W3CDTF">2010-10-10T14:42:08Z</dcterms:modified>
  <cp:revision>781</cp:revision>
  <dc:subject/>
  <dc:title>Euro Crafts 21</dc:title>
</cp:coreProperties>
</file>