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33EA-6F24-4C4C-BB81-1307C356C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EB64-E5F4-401B-A76E-CAC672268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BBEA0-E1AA-4E5D-B7D2-02B19FA5C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F002D-08B3-4993-B099-D2429CF0A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5181-8C79-4CD4-AFC7-7280CB903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DED89-10D8-49F3-B81B-C9EA2DB25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5823-9AAA-4620-83E8-B5BC605B9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44B6E-45ED-425C-90DD-91F30DD4B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8F53-C0FB-4589-9F34-00D9DB63D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14BB7-F5C3-4A22-8D8A-3426D8F0E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45AB-6AB9-4EBE-8DC1-22288A9F7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4695E-AB5A-49EB-A4FB-02D993DE0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20712647-C151-44BC-A84E-E045764B9B5C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60680" y="2060640"/>
            <a:ext cx="39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136f0"/>
                </a:solidFill>
                <a:latin typeface="Arial"/>
              </a:rPr>
              <a:t>OTVORENÁ INOVÁCIA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6767640" cy="23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2233-ED00-4899-B032-66DD39C42D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4EA94-17E9-4F5F-9583-B6C8C9C663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BBE6-7E56-4F7E-8FED-57B77AB9C3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8815C-071D-4B50-83AC-50BE19C413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762EB-813C-47A1-BE39-7DBA5ADE80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76336-2C24-4FC2-AA72-46822C6411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EA8C2-68E8-4BE1-8E0F-A3C99BE471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589F5-8125-40C4-A74D-CBEB147F13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280EE-9AA8-43C8-960A-DF288A95E6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6BFB3-DD47-4288-8032-90CDE64772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05655-1858-4CF1-8CD5-B0645AB4B2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C4443-A87E-4720-9D53-D014646A97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A86E-640E-4A2F-A2BB-613C71811C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85A7A-3B0E-419D-B77D-784D35E708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88DA-EC35-4764-B0BD-30068AF291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01409-73A2-4B7D-9C39-2E578798C5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4:42:08Z</dcterms:modified>
  <cp:revision>781</cp:revision>
  <dc:subject/>
  <dc:title>Euro Crafts 21</dc:title>
</cp:coreProperties>
</file>