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8B80-0B3C-41B5-8796-CC8A26376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6C92-FFF4-48A4-A332-B0FD224E92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BD7C0-BEFB-4A35-9871-DFB4EBA36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D3CF7-1132-47B9-A8D1-1D6E1DDD3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BF63-7454-4EAD-9D32-9ADE0A12E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C720-9564-4D12-B3B9-82A32FEFE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D28E-0C6F-4233-AF69-54065D43B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D8E4-21ED-42DD-BC09-EF74E7485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E84BF-E83A-4F47-8632-7EAFA1523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6ECD2-AAC4-4361-AC76-EEEB21A7EC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76D2C-8682-49DB-A1A3-547491929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E4170-C07E-4D74-9873-01A939109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D98DA621-CAE7-480B-AACC-DD0FBB6A16DE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11240" y="2060640"/>
            <a:ext cx="521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PRIEMYSELNÉ VLASTNÍCTVO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PATENTY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6767640" cy="23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1B5C-3C56-42E4-BF4D-5AD19388CD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3500A-2ECC-4645-BD9E-02D1834EDF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6866-5C5E-4239-AB8A-7CEBF3E40F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501C-DA72-42DC-B3BB-9BB5FD3E99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15D3F-D23E-4F71-A8FE-756DA50C2B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F29B1-A9C4-41DF-BBD8-697AEA1B74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F711-7BE9-4BA9-BA7C-38E31C7987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B527-5E88-4D54-87A4-7714728A4B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C523-D57E-478F-80DC-C125A8388A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23EA-4294-4AF6-A1A7-B07F8B07F2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4:43:10Z</dcterms:modified>
  <cp:revision>785</cp:revision>
  <dc:subject/>
  <dc:title>Euro Crafts 21</dc:title>
</cp:coreProperties>
</file>