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60E20-8C8A-4747-9564-0C8EE2885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E616C-89B8-4E68-921A-A3880589E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08829-2277-40AA-A52F-2D7EB277C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3D881-C74C-4A3C-832D-03D56C9E2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7FE1D-91E0-4D46-A61C-BB5A066BF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325A1-2666-4A42-8FB9-766D9CFCE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E14DF-483C-43C8-8820-6D50AE513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07E00-A425-497B-8926-912C53B4D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96700-0FD6-4905-9232-2A4F297BF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125EB-CCDA-41D2-B2CB-BD898525B0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E580B-C639-44F6-AFFC-3797C3D84B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6D65D-3224-4EBA-A2E0-ED968A7C1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02299080-3035-446E-A78A-FC1581AF7865}" type="slidenum">
              <a:rPr b="0" lang="en-US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11240" y="2060640"/>
            <a:ext cx="521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136f0"/>
                </a:solidFill>
                <a:latin typeface="Arial"/>
              </a:rPr>
              <a:t>PRIEMYSELNÉ VLASTNÍCTVO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136f0"/>
                </a:solidFill>
                <a:latin typeface="Arial"/>
              </a:rPr>
              <a:t>PATENTY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87280" y="4365720"/>
            <a:ext cx="6767640" cy="234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68992-FB9C-40AD-BA99-835A83EFD3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87DA0-B0BE-4FD2-A873-C261CC3AB8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A6409-03F8-413C-A806-1AD5328090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86D25-434D-47F7-8D63-BDB7B770C2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FB78A-A91D-4E4A-A2D1-BE5ACEBAA0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7EBEC-5496-4367-A0B9-B166B6742B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4B03D-1158-42E5-855E-4E83A12791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D1907-EF2E-4F4B-9DBA-D5E2533665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06B00-AE10-49A3-9F23-31BDDF3139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6B3CA-6F7D-4565-B9D1-C3948925FD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Christopher Manstein</dc:creator>
  <dc:description/>
  <dc:language>en-US</dc:language>
  <cp:lastModifiedBy>Vaclav</cp:lastModifiedBy>
  <dcterms:modified xsi:type="dcterms:W3CDTF">2010-10-10T14:43:10Z</dcterms:modified>
  <cp:revision>785</cp:revision>
  <dc:subject/>
  <dc:title>Euro Crafts 21</dc:title>
</cp:coreProperties>
</file>