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34303-65E9-449E-9F1C-59271FFE7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11344-E8E2-4C21-AB56-78B80EBBF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8605B-225F-477A-8C88-8019B75A5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33E20-0524-4905-9A8E-38C87650A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1A940-FB3A-4A2C-BD6C-704A94F34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90FD1-83C8-4B98-B01C-DDD75BEFA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11FDD-544F-4759-BDF2-9091C3607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6643F-1688-47C2-8CE2-E87EE6117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BF708-78BE-4D77-90D3-D6D6E4B46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36575-7905-4B65-9E9B-45AABFAB6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91737-8F2D-4EBA-BB16-39129D4FA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282BC-957F-4207-9DC0-56D488A99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BD3CFBC2-9C32-4225-BFDF-3C325E3130DA}" type="slidenum">
              <a:rPr b="0" lang="de-DE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Projekt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Euro Crafts 21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13c59"/>
                </a:solidFill>
                <a:latin typeface="Arial"/>
              </a:rPr>
              <a:t>Situačné vodcovstvo II.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13c59"/>
                </a:solidFill>
                <a:latin typeface="Arial"/>
              </a:rPr>
              <a:t>v osobnom prístupe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35120" y="3494160"/>
            <a:ext cx="5842080" cy="2022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11640" y="3494160"/>
            <a:ext cx="3529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62440" y="5424480"/>
            <a:ext cx="31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3c59"/>
                </a:solidFill>
                <a:latin typeface="Arial"/>
              </a:rPr>
              <a:t>(</a:t>
            </a:r>
            <a:r>
              <a:rPr b="0" lang="sk-SK" sz="1400" spc="-1" strike="noStrike">
                <a:solidFill>
                  <a:srgbClr val="013c59"/>
                </a:solidFill>
                <a:latin typeface="Arial"/>
              </a:rPr>
              <a:t>č. projektu</a:t>
            </a:r>
            <a:r>
              <a:rPr b="0" lang="en-US" sz="1400" spc="-1" strike="noStrike">
                <a:solidFill>
                  <a:srgbClr val="013c59"/>
                </a:solidFill>
                <a:latin typeface="Arial"/>
              </a:rPr>
              <a:t>: LLP-LDV/TOI-08-AT-0015)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F8A0B-E638-4C37-B976-5D993EDEF2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2971800" y="1143000"/>
            <a:ext cx="4876920" cy="4181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2076480" cy="1190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3"/>
          <a:stretch/>
        </p:blipFill>
        <p:spPr>
          <a:xfrm>
            <a:off x="457200" y="5257800"/>
            <a:ext cx="3733920" cy="89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4"/>
          <a:stretch/>
        </p:blipFill>
        <p:spPr>
          <a:xfrm>
            <a:off x="0" y="6311880"/>
            <a:ext cx="9144000" cy="546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5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554040" y="76320"/>
            <a:ext cx="781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136f0"/>
                </a:solidFill>
                <a:latin typeface="Arial"/>
              </a:rPr>
              <a:t>Situational Leadership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0B792-20D4-4F43-BFD4-04883A17EB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600960" cy="3151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3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87437-A20E-40DD-9E69-60A5BA532E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3143160" cy="4038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5181480" y="1295280"/>
            <a:ext cx="3105360" cy="4172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3"/>
          <a:stretch/>
        </p:blipFill>
        <p:spPr>
          <a:xfrm>
            <a:off x="0" y="559116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"/>
          <p:cNvPicPr/>
          <p:nvPr/>
        </p:nvPicPr>
        <p:blipFill>
          <a:blip r:embed="rId4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9D54F-E711-421E-8DD2-BF1A405DFD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Ďakujeme za pozornosť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1771560"/>
            <a:ext cx="66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9933"/>
                </a:solidFill>
                <a:uFillTx/>
                <a:latin typeface="Arial"/>
              </a:rPr>
              <a:t>http://www.eurocrafts21.eu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66ff"/>
                </a:solidFill>
                <a:latin typeface="Arial"/>
              </a:rPr>
              <a:t>Kontakt</a:t>
            </a: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Trenčianska regionálna komora SOP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Jilemnického 10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Phone: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032-6525797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E-Mail: </a:t>
            </a:r>
            <a:r>
              <a:rPr b="0" lang="sk-SK" sz="1800" spc="-1" strike="noStrike" u="sng">
                <a:solidFill>
                  <a:srgbClr val="0066ff"/>
                </a:solidFill>
                <a:uFillTx/>
                <a:latin typeface="Arial"/>
              </a:rPr>
              <a:t>sopkrktn@sopk.s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Internet: </a:t>
            </a:r>
            <a:r>
              <a:rPr b="0" lang="sk-SK" sz="1800" spc="-1" strike="noStrike" u="sng">
                <a:solidFill>
                  <a:srgbClr val="0066ff"/>
                </a:solidFill>
                <a:uFillTx/>
                <a:latin typeface="Arial"/>
              </a:rPr>
              <a:t>www.komora.nam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85720" y="1878120"/>
            <a:ext cx="2313000" cy="1538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59280" y="306864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e7c48"/>
                </a:solidFill>
                <a:latin typeface="Arial"/>
              </a:rPr>
              <a:t>Jozef Rapant, www.lifehelp.s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4932360" y="3716280"/>
            <a:ext cx="2324160" cy="1050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003640" y="5013360"/>
            <a:ext cx="2629080" cy="113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EC51B-6D30-43E4-A4F2-A412078ABA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21920" y="1676160"/>
            <a:ext cx="80182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e5815"/>
                </a:solidFill>
                <a:latin typeface="Arial"/>
              </a:rPr>
              <a:t>Prečo</a:t>
            </a:r>
            <a:r>
              <a:rPr b="0" lang="de-DE" sz="3200" spc="-1" strike="noStrike">
                <a:solidFill>
                  <a:srgbClr val="fe5815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marL="285840" indent="-28584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Uviesť a implementovať Situačné vedenie ako štýl vedenia a spôsob práce vo VAŠEJ FIRME – SPOLOČNOSTI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85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5E6E0-7F8E-494A-9E54-B6697BDF1A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21920" y="1676160"/>
            <a:ext cx="80182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e581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marL="285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e581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  <a:p>
            <a:pPr marL="285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21920" y="228240"/>
            <a:ext cx="8720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5136f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5136f0"/>
                </a:solidFill>
                <a:latin typeface="Arial"/>
              </a:rPr>
              <a:t>Nová úloha lídra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55040" y="2057400"/>
            <a:ext cx="83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294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13c59"/>
                </a:solidFill>
                <a:latin typeface="Arial"/>
              </a:rPr>
              <a:t>Vedenie je partnerstvo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buClr>
                <a:srgbClr val="9294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13c59"/>
                </a:solidFill>
                <a:latin typeface="Arial"/>
              </a:rPr>
              <a:t>Nie prikazovanie a kontrola,ale podpora a povzbudenie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2971800" y="4114800"/>
            <a:ext cx="3200400" cy="1792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B6FA5-E1E1-4AE3-BE1D-E11DA67F6C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4951800" y="1828800"/>
            <a:ext cx="2553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4 štýly vedenia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       </a:t>
            </a: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S1,S2,S3,S4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     </a:t>
            </a: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4 úrovne rozvoja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    </a:t>
            </a:r>
            <a:r>
              <a:rPr b="1" lang="sk-SK" sz="2000" spc="-1" strike="noStrike">
                <a:solidFill>
                  <a:srgbClr val="013c59"/>
                </a:solidFill>
                <a:latin typeface="Arial"/>
              </a:rPr>
              <a:t>D1,D2,D3,D4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539640" y="189000"/>
            <a:ext cx="781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66"/>
                </a:solidFill>
                <a:latin typeface="Arial"/>
              </a:rPr>
              <a:t>Model Situačného vedenia SL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886200" cy="487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559116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3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E1841-9E9E-446B-9F14-982677D5DD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3680" y="75960"/>
            <a:ext cx="7816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5136f0"/>
                </a:solidFill>
                <a:latin typeface="Arial"/>
              </a:rPr>
              <a:t>Štýl vedenia</a:t>
            </a:r>
            <a:endParaRPr b="0" lang="en-US" sz="18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3809880" cy="1573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46DF7-002E-4413-8D68-C999EA4079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3680" y="75960"/>
            <a:ext cx="7816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136f0"/>
                </a:solidFill>
                <a:latin typeface="Arial"/>
              </a:rPr>
              <a:t>Situational Leadership </a:t>
            </a:r>
            <a:endParaRPr b="0" lang="en-US" sz="18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667040" cy="424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1800360" cy="1571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3581280" y="5029200"/>
            <a:ext cx="192420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4"/>
          <a:stretch/>
        </p:blipFill>
        <p:spPr>
          <a:xfrm>
            <a:off x="0" y="6311880"/>
            <a:ext cx="9144000" cy="546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5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F5084-9532-4E3E-88CE-779B361ADD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3680" y="75960"/>
            <a:ext cx="7816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136f0"/>
                </a:solidFill>
                <a:latin typeface="Arial"/>
              </a:rPr>
              <a:t>Situational Leadership </a:t>
            </a:r>
            <a:endParaRPr b="0" lang="en-US" sz="18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6248520" y="3276720"/>
            <a:ext cx="2057400" cy="1390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1295280" y="914400"/>
            <a:ext cx="4876920" cy="4181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3"/>
          <a:stretch/>
        </p:blipFill>
        <p:spPr>
          <a:xfrm>
            <a:off x="2049480" y="5230800"/>
            <a:ext cx="4772160" cy="10098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"/>
          <p:cNvSpPr/>
          <p:nvPr/>
        </p:nvSpPr>
        <p:spPr>
          <a:xfrm>
            <a:off x="8003160" y="2971800"/>
            <a:ext cx="63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13c59"/>
                </a:solidFill>
                <a:latin typeface="Arial"/>
              </a:rPr>
              <a:t>ČO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13c59"/>
                </a:solidFill>
                <a:latin typeface="Arial"/>
              </a:rPr>
              <a:t>AKO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0" y="6672240"/>
            <a:ext cx="9144000" cy="185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5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6"/>
          <a:stretch/>
        </p:blipFill>
        <p:spPr>
          <a:xfrm>
            <a:off x="0" y="6526080"/>
            <a:ext cx="6734160" cy="33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8CA29-C1ED-439D-BE8D-372901B77D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53680" y="75960"/>
            <a:ext cx="7816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136f0"/>
                </a:solidFill>
                <a:latin typeface="Arial"/>
              </a:rPr>
              <a:t>Situational Leadership II</a:t>
            </a:r>
            <a:endParaRPr b="0" lang="en-US" sz="18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4876920" cy="4181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194328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5114880" y="2362320"/>
            <a:ext cx="4029120" cy="83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5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F4142-FEFC-4E7E-A3F7-57EF0185D2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53680" y="75960"/>
            <a:ext cx="7816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136f0"/>
                </a:solidFill>
                <a:latin typeface="Arial"/>
              </a:rPr>
              <a:t>Situational Leadership </a:t>
            </a:r>
            <a:endParaRPr b="0" lang="en-US" sz="18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3581280" y="990720"/>
            <a:ext cx="4876920" cy="4181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208584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0" y="2666880"/>
            <a:ext cx="4152960" cy="819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600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5"/>
          <a:stretch/>
        </p:blipFill>
        <p:spPr>
          <a:xfrm>
            <a:off x="6819840" y="5807160"/>
            <a:ext cx="2324160" cy="105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30568-37D3-48CD-84E7-D0BDBD7386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Vaclav</cp:lastModifiedBy>
  <dcterms:modified xsi:type="dcterms:W3CDTF">2010-10-10T15:00:18Z</dcterms:modified>
  <cp:revision>766</cp:revision>
  <dc:subject/>
  <dc:title>Euro Crafts 21</dc:title>
</cp:coreProperties>
</file>