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B210-43D0-4178-A7F1-4EFEFD45A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EDE2-18B1-457C-B6D0-A10336F9B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F8F9-E1BC-43DA-9CC0-750603226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0E70-CB8F-4B5D-8AB8-76C788830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5337-60BC-4DE8-8698-3BB20CD17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5A750-7CD5-45D5-876F-1C9ED0080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E292-DF95-4ECE-BF76-F5BFEB307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A021-1015-4FB8-B4AD-B8CD725C4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BCCF-6A0D-4656-A51F-8FC43C5A9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B9C0-DFCE-4662-8D26-5AB0EFEF9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31E0-87A7-4503-917D-3A3D1ED45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7FAD-4329-4E37-9B4E-17E064E56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73A42609-FD7E-4379-B525-804AA8504BEC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Situačné vodcovstvo II.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v osobnom prístup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5231-99DF-4539-B5B0-D606ACB070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4876920" cy="4181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2076480" cy="119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457200" y="5257800"/>
            <a:ext cx="3733920" cy="89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0" y="631188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554040" y="76320"/>
            <a:ext cx="781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E54A-6509-4697-B4D1-C79FE5AF46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00960" cy="315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6DD5-E3B9-4F0C-85B1-ADA0FF4AEB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3143160" cy="403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105360" cy="4172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4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BBF9-A266-4B38-94C3-60E6D7568D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e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66ff"/>
                </a:solidFill>
                <a:latin typeface="Arial"/>
              </a:rPr>
              <a:t>Kontakt</a:t>
            </a: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59280" y="306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7c48"/>
                </a:solidFill>
                <a:latin typeface="Arial"/>
              </a:rPr>
              <a:t>Jozef Rapant, 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003640" y="501336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D821-75C8-4718-BC0B-7EBBEF1510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1920" y="1676160"/>
            <a:ext cx="8018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Prečo</a:t>
            </a:r>
            <a:r>
              <a:rPr b="0" lang="de-DE" sz="3200" spc="-1" strike="noStrike">
                <a:solidFill>
                  <a:srgbClr val="fe5815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Uviesť a implementovať Situačné vedenie ako štýl vedenia a spôsob práce vo VAŠEJ FIRME – SPOLOČNOST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A0D6-DB57-4E7B-8155-9BDBABD801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1920" y="1676160"/>
            <a:ext cx="8018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21920" y="228240"/>
            <a:ext cx="8720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Nová úloha lídr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5040" y="2057400"/>
            <a:ext cx="83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13c59"/>
                </a:solidFill>
                <a:latin typeface="Arial"/>
              </a:rPr>
              <a:t>Vedenie je partnerstv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13c59"/>
                </a:solidFill>
                <a:latin typeface="Arial"/>
              </a:rPr>
              <a:t>Nie prikazovanie a kontrola,ale podpora a povzbudeni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3200400" cy="1792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7ECC-BC59-4103-B114-DB648D464E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951800" y="1828800"/>
            <a:ext cx="2553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4 štýly vedeni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S1,S2,S3,S4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4 úrovne rozvoj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D1,D2,D3,D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189000"/>
            <a:ext cx="781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Model Situačného vedenia SL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886200" cy="48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4637-0C41-492A-89CC-5BAFD8C1D0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5136f0"/>
                </a:solidFill>
                <a:latin typeface="Arial"/>
              </a:rPr>
              <a:t>Štýl vedenia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809880" cy="157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6090-2DA1-46E6-BF42-B56FAED01D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67040" cy="424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1800360" cy="157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581280" y="5029200"/>
            <a:ext cx="192420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4"/>
          <a:stretch/>
        </p:blipFill>
        <p:spPr>
          <a:xfrm>
            <a:off x="0" y="631188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9F03-D032-4392-95FA-6E65DB31CE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6248520" y="3276720"/>
            <a:ext cx="2057400" cy="1390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4876920" cy="418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2049480" y="5230800"/>
            <a:ext cx="4772160" cy="1009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8003160" y="2971800"/>
            <a:ext cx="63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Č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AK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0" y="6672240"/>
            <a:ext cx="9144000" cy="185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6"/>
          <a:stretch/>
        </p:blipFill>
        <p:spPr>
          <a:xfrm>
            <a:off x="0" y="6526080"/>
            <a:ext cx="6734160" cy="33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9BB8-DF42-4403-A927-1B4A17DB07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II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4876920" cy="4181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194328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5114880" y="2362320"/>
            <a:ext cx="402912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7F83-2DB8-4195-B545-D8E82AF1F7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4876920" cy="4181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208584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0" y="2666880"/>
            <a:ext cx="4152960" cy="819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D609-7BC7-40C1-A9B8-D83001BF0B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00:18Z</dcterms:modified>
  <cp:revision>766</cp:revision>
  <dc:subject/>
  <dc:title>Euro Crafts 21</dc:title>
</cp:coreProperties>
</file>