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136f0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9AF3601-6E1E-4D81-9DE9-21B5CFBDEA7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C57028F-6F1B-4D90-B870-C3D0A4D6FEC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3846600" y="9441000"/>
            <a:ext cx="2950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41913470-DC94-4959-897E-62E31CD45D44}" type="slidenum">
              <a:rPr b="0" lang="en-US" sz="1800" spc="-1" strike="noStrike">
                <a:solidFill>
                  <a:srgbClr val="013c59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04680" y="4713120"/>
            <a:ext cx="4987800" cy="4470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, part of the business case is showing that something is wrong with the status quo.  This development level distribution is obviously not ideal, with only 15% of critical tasks being performed at the D4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experience, most clients we work with have percentages within +/- 5% of these perce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B0C774E-D35E-470A-A457-63ADC6F23D9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3846600" y="9441000"/>
            <a:ext cx="2950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EC0FB7E7-F4F5-43BB-BA0C-02BC2C872F90}" type="slidenum">
              <a:rPr b="0" lang="en-US" sz="1800" spc="-1" strike="noStrike">
                <a:solidFill>
                  <a:srgbClr val="013c59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440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87800" cy="4468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Why does it matter that 35% of critical tasks are performed at Beginner (D1) or Learner (D2) levels?  People performing at these development levels are returning a negative net return to the bottom lin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es it matter that another 50% of critical tasks are performed at Capable Performer (D3) levels?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ople performing at the Capable Performer development level are returning significantly less net return to the bottom line than a Self-Reliant Achiever (D4) on the same t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exact return depends on the task being performed).  For example, consider the relative economic return of your top salespeople versus your average salespeople; typically, the 80/20 rule applies (i.e., 80% of the economic return is produced by 20% of the peop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238F2-92C3-46CD-B6D6-29F2E78FA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13AB5-DA21-4BA4-A23D-830AE80E54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0411D-9A36-493F-9179-D31DA393BD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22325-C878-4CFA-9344-5D24A342C0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562AC-81B0-440D-B4CD-BC29B9F8D9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7F07A-4678-412E-B113-EECBC9F088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21BD7-D624-4ED3-AC06-257B6E1B6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FBD75-218E-4FAF-BD81-559BD5B09E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DF23F-7BAC-4C72-B671-A0BA01D49D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375C3-7E48-4EF2-9394-5604B720C2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DD83D-AE81-47E3-98B8-A266B12252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E1EEB-B164-4795-89B0-725D5B1AA1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510840" y="6179760"/>
            <a:ext cx="728676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66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53080" y="6205680"/>
            <a:ext cx="53964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(</a:t>
            </a:r>
            <a:fld id="{368FB69B-7F99-4C24-AFBF-6A91699F66CD}" type="slidenum">
              <a:rPr b="0" lang="en-US" sz="9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9760" y="1398600"/>
            <a:ext cx="80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76b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6948360" y="196920"/>
            <a:ext cx="1584360" cy="639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36680" y="257040"/>
            <a:ext cx="2047680" cy="3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15280" y="2314440"/>
            <a:ext cx="2463480" cy="1393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6476760" y="2865600"/>
            <a:ext cx="19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93640" y="28656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308560"/>
            <a:ext cx="9144000" cy="15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13c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755880"/>
            <a:ext cx="61722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7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00040" y="620640"/>
            <a:ext cx="78883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66ff"/>
                </a:solidFill>
                <a:latin typeface="Arial"/>
              </a:rPr>
              <a:t>Projekt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Euro Crafts 21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989000"/>
            <a:ext cx="78487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13c59"/>
                </a:solidFill>
                <a:latin typeface="Arial"/>
              </a:rPr>
              <a:t>Situačné vodcovstvo II.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13c59"/>
                </a:solidFill>
                <a:latin typeface="Arial"/>
              </a:rPr>
              <a:t>Úroveň rozvoja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35120" y="3494160"/>
            <a:ext cx="5842080" cy="2022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211640" y="3494160"/>
            <a:ext cx="35290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62440" y="5424480"/>
            <a:ext cx="31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3c59"/>
                </a:solidFill>
                <a:latin typeface="Arial"/>
              </a:rPr>
              <a:t>(</a:t>
            </a:r>
            <a:r>
              <a:rPr b="0" lang="sk-SK" sz="1400" spc="-1" strike="noStrike">
                <a:solidFill>
                  <a:srgbClr val="013c59"/>
                </a:solidFill>
                <a:latin typeface="Arial"/>
              </a:rPr>
              <a:t>č. projektu</a:t>
            </a:r>
            <a:r>
              <a:rPr b="0" lang="en-US" sz="1400" spc="-1" strike="noStrike">
                <a:solidFill>
                  <a:srgbClr val="013c59"/>
                </a:solidFill>
                <a:latin typeface="Arial"/>
              </a:rPr>
              <a:t>: LLP-LDV/TOI-08-AT-0015)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F2046-FD28-4372-ABAA-8852F0936F8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00040" y="620640"/>
            <a:ext cx="78883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66ff"/>
                </a:solidFill>
                <a:latin typeface="Arial"/>
              </a:rPr>
              <a:t>Ďakujeme za pozornosť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8360" y="1771560"/>
            <a:ext cx="6696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9933"/>
                </a:solidFill>
                <a:uFillTx/>
                <a:latin typeface="Arial"/>
              </a:rPr>
              <a:t>http://www.eurocrafts21.eu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66ff"/>
                </a:solidFill>
                <a:latin typeface="Arial"/>
              </a:rPr>
              <a:t>Kontakt</a:t>
            </a: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Trenčianska regionálna komora SOPK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Jilemnického 10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Tel:</a:t>
            </a: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032-6525797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E-Mail: </a:t>
            </a:r>
            <a:r>
              <a:rPr b="0" lang="sk-SK" sz="1800" spc="-1" strike="noStrike" u="sng">
                <a:solidFill>
                  <a:srgbClr val="0066ff"/>
                </a:solidFill>
                <a:uFillTx/>
                <a:latin typeface="Arial"/>
              </a:rPr>
              <a:t>sopkrktn@sopk.sk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Internet: </a:t>
            </a:r>
            <a:r>
              <a:rPr b="0" lang="sk-SK" sz="1800" spc="-1" strike="noStrike" u="sng">
                <a:solidFill>
                  <a:srgbClr val="0066ff"/>
                </a:solidFill>
                <a:uFillTx/>
                <a:latin typeface="Arial"/>
              </a:rPr>
              <a:t>www.komora.name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85720" y="1878120"/>
            <a:ext cx="2313000" cy="15382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059280" y="306864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e7c48"/>
                </a:solidFill>
                <a:latin typeface="Arial"/>
              </a:rPr>
              <a:t>Jozef Rapant, www.lifehelp.sk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2"/>
          <a:stretch/>
        </p:blipFill>
        <p:spPr>
          <a:xfrm>
            <a:off x="4932360" y="3716280"/>
            <a:ext cx="2324160" cy="10508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5003640" y="5013360"/>
            <a:ext cx="2629080" cy="113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52A95-BC70-4456-B835-14E1320089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4951800" y="1828800"/>
            <a:ext cx="2553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4 štýly vedenia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       </a:t>
            </a: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S1,S2,S3,S4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     </a:t>
            </a: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4 úrovne rozvoja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    </a:t>
            </a: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D1,D2,D3,D4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539640" y="189000"/>
            <a:ext cx="7817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66"/>
                </a:solidFill>
                <a:latin typeface="Arial"/>
              </a:rPr>
              <a:t>Model Situačného vedenia SL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3886200" cy="4876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0" y="559116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3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2CD39-C4C4-486B-9016-3A489971D5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3680" y="75960"/>
            <a:ext cx="7816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5136f0"/>
                </a:solidFill>
                <a:latin typeface="Arial"/>
              </a:rPr>
              <a:t>Úroveň rozvoja</a:t>
            </a:r>
            <a:endParaRPr b="0" lang="en-US" sz="1800" spc="-1" strike="noStrike">
              <a:solidFill>
                <a:srgbClr val="5136f0"/>
              </a:solidFill>
              <a:latin typeface="Arial"/>
            </a:endParaRPr>
          </a:p>
        </p:txBody>
      </p:sp>
      <p:pic>
        <p:nvPicPr>
          <p:cNvPr id="102" name="Picture 45" descr=""/>
          <p:cNvPicPr/>
          <p:nvPr/>
        </p:nvPicPr>
        <p:blipFill>
          <a:blip r:embed="rId1"/>
          <a:stretch/>
        </p:blipFill>
        <p:spPr>
          <a:xfrm>
            <a:off x="1523880" y="2982960"/>
            <a:ext cx="5619960" cy="20019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8"/>
          <p:cNvSpPr/>
          <p:nvPr/>
        </p:nvSpPr>
        <p:spPr>
          <a:xfrm>
            <a:off x="1769760" y="2286000"/>
            <a:ext cx="10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13c59"/>
                </a:solidFill>
                <a:latin typeface="Arial"/>
              </a:rPr>
              <a:t>Znalosti,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13c59"/>
                </a:solidFill>
                <a:latin typeface="Arial"/>
              </a:rPr>
              <a:t>zručnosti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4" name="Text Box 49"/>
          <p:cNvSpPr/>
          <p:nvPr/>
        </p:nvSpPr>
        <p:spPr>
          <a:xfrm>
            <a:off x="942840" y="5181480"/>
            <a:ext cx="2338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13c59"/>
                </a:solidFill>
                <a:latin typeface="Arial"/>
              </a:rPr>
              <a:t>Motivácia,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13c59"/>
                </a:solidFill>
                <a:latin typeface="Arial"/>
              </a:rPr>
              <a:t>angažovanosť, dôvera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5" name="AutoShape 51"/>
          <p:cNvSpPr/>
          <p:nvPr/>
        </p:nvSpPr>
        <p:spPr>
          <a:xfrm rot="1258200">
            <a:off x="2361960" y="1828800"/>
            <a:ext cx="3581280" cy="609480"/>
          </a:xfrm>
          <a:prstGeom prst="leftArrow">
            <a:avLst>
              <a:gd name="adj1" fmla="val 50000"/>
              <a:gd name="adj2" fmla="val 146899"/>
            </a:avLst>
          </a:prstGeom>
          <a:solidFill>
            <a:srgbClr val="efe8d1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6" name="AutoShape 52"/>
          <p:cNvSpPr/>
          <p:nvPr/>
        </p:nvSpPr>
        <p:spPr>
          <a:xfrm rot="19509000">
            <a:off x="4611240" y="5083200"/>
            <a:ext cx="1905120" cy="380880"/>
          </a:xfrm>
          <a:prstGeom prst="leftArrow">
            <a:avLst>
              <a:gd name="adj1" fmla="val 50000"/>
              <a:gd name="adj2" fmla="val 125047"/>
            </a:avLst>
          </a:prstGeom>
          <a:solidFill>
            <a:srgbClr val="efe8d1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7" name="AutoShape 53"/>
          <p:cNvSpPr/>
          <p:nvPr/>
        </p:nvSpPr>
        <p:spPr>
          <a:xfrm rot="1472400">
            <a:off x="2438280" y="5105160"/>
            <a:ext cx="1752840" cy="457200"/>
          </a:xfrm>
          <a:prstGeom prst="leftArrow">
            <a:avLst>
              <a:gd name="adj1" fmla="val 50000"/>
              <a:gd name="adj2" fmla="val 95846"/>
            </a:avLst>
          </a:prstGeom>
          <a:solidFill>
            <a:srgbClr val="efe8d1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9E220-6602-419B-A471-DC98E48044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79074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5136f0"/>
                </a:solidFill>
                <a:latin typeface="Arial"/>
              </a:rPr>
              <a:t>Kritické rozdelenie úloh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7308720" y="4983120"/>
            <a:ext cx="1143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3c59"/>
                </a:solidFill>
                <a:latin typeface="Arial"/>
              </a:rPr>
              <a:t>10%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5327640" y="4983120"/>
            <a:ext cx="1295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3c59"/>
                </a:solidFill>
                <a:latin typeface="Arial"/>
              </a:rPr>
              <a:t>25%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3422520" y="4983120"/>
            <a:ext cx="1295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3c59"/>
                </a:solidFill>
                <a:latin typeface="Arial"/>
              </a:rPr>
              <a:t>50%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1441440" y="4983120"/>
            <a:ext cx="1143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3c59"/>
                </a:solidFill>
                <a:latin typeface="Arial"/>
              </a:rPr>
              <a:t>15%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47680" y="5591160"/>
            <a:ext cx="739152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13c59"/>
                </a:solidFill>
                <a:latin typeface="Arial"/>
              </a:rPr>
              <a:t>Vypozorované rozdelenie úrovne rozvoja voči kritickým úlohám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600" spc="-1" strike="noStrike">
                <a:solidFill>
                  <a:srgbClr val="013c59"/>
                </a:solidFill>
                <a:latin typeface="Arial"/>
              </a:rPr>
              <a:t>Zdroj</a:t>
            </a:r>
            <a:r>
              <a:rPr b="1" i="1" lang="en-US" sz="1600" spc="-1" strike="noStrike">
                <a:solidFill>
                  <a:srgbClr val="013c59"/>
                </a:solidFill>
                <a:latin typeface="Arial"/>
              </a:rPr>
              <a:t>: Blanchard Field Research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990720" y="1814400"/>
            <a:ext cx="1892160" cy="1103400"/>
          </a:xfrm>
          <a:prstGeom prst="rect">
            <a:avLst/>
          </a:prstGeom>
          <a:solidFill>
            <a:srgbClr val="0b6b2a"/>
          </a:solidFill>
          <a:ln w="1260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2895480" y="1814400"/>
            <a:ext cx="1892520" cy="1103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4800600" y="1814400"/>
            <a:ext cx="1892160" cy="1103400"/>
          </a:xfrm>
          <a:prstGeom prst="rect">
            <a:avLst/>
          </a:prstGeom>
          <a:solidFill>
            <a:srgbClr val="ff9900"/>
          </a:solidFill>
          <a:ln w="1260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6705720" y="1814400"/>
            <a:ext cx="1892160" cy="1103400"/>
          </a:xfrm>
          <a:prstGeom prst="rect">
            <a:avLst/>
          </a:prstGeom>
          <a:solidFill>
            <a:srgbClr val="ff0000"/>
          </a:solidFill>
          <a:ln w="1260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1347840" y="1752480"/>
            <a:ext cx="114300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D4</a:t>
            </a:r>
            <a:endParaRPr b="0" lang="en-US" sz="4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3252960" y="1752480"/>
            <a:ext cx="114300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13c59"/>
                </a:solidFill>
                <a:latin typeface="Times New Roman"/>
              </a:rPr>
              <a:t>D3</a:t>
            </a:r>
            <a:endParaRPr b="0" lang="en-US" sz="4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5157720" y="1752480"/>
            <a:ext cx="114300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13c59"/>
                </a:solidFill>
                <a:latin typeface="Times New Roman"/>
              </a:rPr>
              <a:t>D2</a:t>
            </a:r>
            <a:endParaRPr b="0" lang="en-US" sz="4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7062840" y="1752480"/>
            <a:ext cx="114300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D1</a:t>
            </a:r>
            <a:endParaRPr b="0" lang="en-US" sz="4200" spc="-1" strike="noStrike">
              <a:solidFill>
                <a:srgbClr val="013c59"/>
              </a:solidFill>
              <a:latin typeface="Arial"/>
            </a:endParaRPr>
          </a:p>
        </p:txBody>
      </p:sp>
      <p:grpSp>
        <p:nvGrpSpPr>
          <p:cNvPr id="124" name="Group 16"/>
          <p:cNvGrpSpPr/>
          <p:nvPr/>
        </p:nvGrpSpPr>
        <p:grpSpPr>
          <a:xfrm>
            <a:off x="990720" y="2917800"/>
            <a:ext cx="7606800" cy="2021040"/>
            <a:chOff x="990720" y="2917800"/>
            <a:chExt cx="7606800" cy="2021040"/>
          </a:xfrm>
        </p:grpSpPr>
        <p:sp>
          <p:nvSpPr>
            <p:cNvPr id="125" name="Rectangle 17"/>
            <p:cNvSpPr/>
            <p:nvPr/>
          </p:nvSpPr>
          <p:spPr>
            <a:xfrm>
              <a:off x="990720" y="2917800"/>
              <a:ext cx="1892160" cy="2021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2895480" y="2917800"/>
              <a:ext cx="1891800" cy="2021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27" name="Rectangle 19"/>
            <p:cNvSpPr/>
            <p:nvPr/>
          </p:nvSpPr>
          <p:spPr>
            <a:xfrm>
              <a:off x="4800600" y="2917800"/>
              <a:ext cx="1891800" cy="2021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28" name="Rectangle 20"/>
            <p:cNvSpPr/>
            <p:nvPr/>
          </p:nvSpPr>
          <p:spPr>
            <a:xfrm>
              <a:off x="6705360" y="2917800"/>
              <a:ext cx="1892160" cy="2021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</p:grpSp>
      <p:sp>
        <p:nvSpPr>
          <p:cNvPr id="129" name="Freeform 21"/>
          <p:cNvSpPr/>
          <p:nvPr/>
        </p:nvSpPr>
        <p:spPr>
          <a:xfrm>
            <a:off x="1136520" y="3141720"/>
            <a:ext cx="7317000" cy="1568520"/>
          </a:xfrm>
          <a:custGeom>
            <a:avLst/>
            <a:gdLst>
              <a:gd name="textAreaLeft" fmla="*/ 0 w 7317000"/>
              <a:gd name="textAreaRight" fmla="*/ 7317360 w 7317000"/>
              <a:gd name="textAreaTop" fmla="*/ 0 h 1568520"/>
              <a:gd name="textAreaBottom" fmla="*/ 1568880 h 1568520"/>
            </a:gdLst>
            <a:ahLst/>
            <a:rect l="textAreaLeft" t="textAreaTop" r="textAreaRight" b="textAreaBottom"/>
            <a:pathLst>
              <a:path w="4609" h="1084">
                <a:moveTo>
                  <a:pt x="0" y="0"/>
                </a:moveTo>
                <a:lnTo>
                  <a:pt x="56" y="12"/>
                </a:lnTo>
                <a:lnTo>
                  <a:pt x="84" y="12"/>
                </a:lnTo>
                <a:lnTo>
                  <a:pt x="132" y="31"/>
                </a:lnTo>
                <a:lnTo>
                  <a:pt x="227" y="47"/>
                </a:lnTo>
                <a:lnTo>
                  <a:pt x="304" y="66"/>
                </a:lnTo>
                <a:lnTo>
                  <a:pt x="351" y="101"/>
                </a:lnTo>
                <a:lnTo>
                  <a:pt x="399" y="119"/>
                </a:lnTo>
                <a:lnTo>
                  <a:pt x="446" y="119"/>
                </a:lnTo>
                <a:lnTo>
                  <a:pt x="504" y="136"/>
                </a:lnTo>
                <a:lnTo>
                  <a:pt x="561" y="154"/>
                </a:lnTo>
                <a:lnTo>
                  <a:pt x="666" y="171"/>
                </a:lnTo>
                <a:lnTo>
                  <a:pt x="789" y="189"/>
                </a:lnTo>
                <a:lnTo>
                  <a:pt x="885" y="224"/>
                </a:lnTo>
                <a:lnTo>
                  <a:pt x="1008" y="276"/>
                </a:lnTo>
                <a:lnTo>
                  <a:pt x="1132" y="311"/>
                </a:lnTo>
                <a:lnTo>
                  <a:pt x="1256" y="329"/>
                </a:lnTo>
                <a:lnTo>
                  <a:pt x="1304" y="346"/>
                </a:lnTo>
                <a:lnTo>
                  <a:pt x="1351" y="381"/>
                </a:lnTo>
                <a:lnTo>
                  <a:pt x="1380" y="399"/>
                </a:lnTo>
                <a:lnTo>
                  <a:pt x="1456" y="416"/>
                </a:lnTo>
                <a:lnTo>
                  <a:pt x="1561" y="451"/>
                </a:lnTo>
                <a:lnTo>
                  <a:pt x="1637" y="486"/>
                </a:lnTo>
                <a:lnTo>
                  <a:pt x="1742" y="504"/>
                </a:lnTo>
                <a:lnTo>
                  <a:pt x="1837" y="539"/>
                </a:lnTo>
                <a:lnTo>
                  <a:pt x="1913" y="558"/>
                </a:lnTo>
                <a:lnTo>
                  <a:pt x="2018" y="574"/>
                </a:lnTo>
                <a:lnTo>
                  <a:pt x="2075" y="593"/>
                </a:lnTo>
                <a:lnTo>
                  <a:pt x="2180" y="609"/>
                </a:lnTo>
                <a:lnTo>
                  <a:pt x="2275" y="628"/>
                </a:lnTo>
                <a:lnTo>
                  <a:pt x="2399" y="644"/>
                </a:lnTo>
                <a:lnTo>
                  <a:pt x="2456" y="679"/>
                </a:lnTo>
                <a:lnTo>
                  <a:pt x="2609" y="679"/>
                </a:lnTo>
                <a:lnTo>
                  <a:pt x="2714" y="698"/>
                </a:lnTo>
                <a:lnTo>
                  <a:pt x="2809" y="698"/>
                </a:lnTo>
                <a:lnTo>
                  <a:pt x="2885" y="714"/>
                </a:lnTo>
                <a:lnTo>
                  <a:pt x="2952" y="733"/>
                </a:lnTo>
                <a:lnTo>
                  <a:pt x="3047" y="733"/>
                </a:lnTo>
                <a:lnTo>
                  <a:pt x="3123" y="749"/>
                </a:lnTo>
                <a:lnTo>
                  <a:pt x="3209" y="768"/>
                </a:lnTo>
                <a:lnTo>
                  <a:pt x="3247" y="768"/>
                </a:lnTo>
                <a:lnTo>
                  <a:pt x="3295" y="784"/>
                </a:lnTo>
                <a:lnTo>
                  <a:pt x="3342" y="803"/>
                </a:lnTo>
                <a:lnTo>
                  <a:pt x="3399" y="803"/>
                </a:lnTo>
                <a:lnTo>
                  <a:pt x="3447" y="803"/>
                </a:lnTo>
                <a:lnTo>
                  <a:pt x="3495" y="819"/>
                </a:lnTo>
                <a:lnTo>
                  <a:pt x="3552" y="838"/>
                </a:lnTo>
                <a:lnTo>
                  <a:pt x="3676" y="838"/>
                </a:lnTo>
                <a:lnTo>
                  <a:pt x="3752" y="854"/>
                </a:lnTo>
                <a:lnTo>
                  <a:pt x="3809" y="889"/>
                </a:lnTo>
                <a:lnTo>
                  <a:pt x="3857" y="889"/>
                </a:lnTo>
                <a:lnTo>
                  <a:pt x="3914" y="908"/>
                </a:lnTo>
                <a:lnTo>
                  <a:pt x="3962" y="961"/>
                </a:lnTo>
                <a:lnTo>
                  <a:pt x="4019" y="961"/>
                </a:lnTo>
                <a:lnTo>
                  <a:pt x="4076" y="978"/>
                </a:lnTo>
                <a:lnTo>
                  <a:pt x="4123" y="996"/>
                </a:lnTo>
                <a:lnTo>
                  <a:pt x="4162" y="1013"/>
                </a:lnTo>
                <a:lnTo>
                  <a:pt x="4200" y="1013"/>
                </a:lnTo>
                <a:lnTo>
                  <a:pt x="4247" y="1031"/>
                </a:lnTo>
                <a:lnTo>
                  <a:pt x="4295" y="1048"/>
                </a:lnTo>
                <a:lnTo>
                  <a:pt x="4352" y="1048"/>
                </a:lnTo>
                <a:lnTo>
                  <a:pt x="4419" y="1066"/>
                </a:lnTo>
                <a:lnTo>
                  <a:pt x="4447" y="1066"/>
                </a:lnTo>
                <a:lnTo>
                  <a:pt x="4485" y="1066"/>
                </a:lnTo>
                <a:lnTo>
                  <a:pt x="4543" y="1083"/>
                </a:lnTo>
                <a:lnTo>
                  <a:pt x="4571" y="1083"/>
                </a:lnTo>
                <a:lnTo>
                  <a:pt x="4608" y="1060"/>
                </a:lnTo>
              </a:path>
            </a:pathLst>
          </a:custGeom>
          <a:noFill/>
          <a:ln cap="rnd" w="38160">
            <a:solidFill>
              <a:srgbClr val="fe5815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0" name="Freeform 22"/>
          <p:cNvSpPr/>
          <p:nvPr/>
        </p:nvSpPr>
        <p:spPr>
          <a:xfrm>
            <a:off x="1212840" y="3048120"/>
            <a:ext cx="7240680" cy="1738080"/>
          </a:xfrm>
          <a:custGeom>
            <a:avLst/>
            <a:gdLst>
              <a:gd name="textAreaLeft" fmla="*/ 0 w 7240680"/>
              <a:gd name="textAreaRight" fmla="*/ 7241040 w 7240680"/>
              <a:gd name="textAreaTop" fmla="*/ 0 h 1738080"/>
              <a:gd name="textAreaBottom" fmla="*/ 1738440 h 1738080"/>
            </a:gdLst>
            <a:ahLst/>
            <a:rect l="textAreaLeft" t="textAreaTop" r="textAreaRight" b="textAreaBottom"/>
            <a:pathLst>
              <a:path w="4561" h="1123">
                <a:moveTo>
                  <a:pt x="0" y="233"/>
                </a:moveTo>
                <a:lnTo>
                  <a:pt x="56" y="193"/>
                </a:lnTo>
                <a:lnTo>
                  <a:pt x="103" y="193"/>
                </a:lnTo>
                <a:lnTo>
                  <a:pt x="151" y="193"/>
                </a:lnTo>
                <a:lnTo>
                  <a:pt x="198" y="210"/>
                </a:lnTo>
                <a:lnTo>
                  <a:pt x="237" y="228"/>
                </a:lnTo>
                <a:lnTo>
                  <a:pt x="294" y="245"/>
                </a:lnTo>
                <a:lnTo>
                  <a:pt x="351" y="263"/>
                </a:lnTo>
                <a:lnTo>
                  <a:pt x="398" y="298"/>
                </a:lnTo>
                <a:lnTo>
                  <a:pt x="437" y="333"/>
                </a:lnTo>
                <a:lnTo>
                  <a:pt x="494" y="350"/>
                </a:lnTo>
                <a:lnTo>
                  <a:pt x="541" y="368"/>
                </a:lnTo>
                <a:lnTo>
                  <a:pt x="579" y="403"/>
                </a:lnTo>
                <a:lnTo>
                  <a:pt x="608" y="420"/>
                </a:lnTo>
                <a:lnTo>
                  <a:pt x="656" y="455"/>
                </a:lnTo>
                <a:lnTo>
                  <a:pt x="694" y="473"/>
                </a:lnTo>
                <a:lnTo>
                  <a:pt x="732" y="508"/>
                </a:lnTo>
                <a:lnTo>
                  <a:pt x="760" y="526"/>
                </a:lnTo>
                <a:lnTo>
                  <a:pt x="789" y="543"/>
                </a:lnTo>
                <a:lnTo>
                  <a:pt x="837" y="561"/>
                </a:lnTo>
                <a:lnTo>
                  <a:pt x="875" y="578"/>
                </a:lnTo>
                <a:lnTo>
                  <a:pt x="913" y="596"/>
                </a:lnTo>
                <a:lnTo>
                  <a:pt x="941" y="596"/>
                </a:lnTo>
                <a:lnTo>
                  <a:pt x="970" y="613"/>
                </a:lnTo>
                <a:lnTo>
                  <a:pt x="999" y="631"/>
                </a:lnTo>
                <a:lnTo>
                  <a:pt x="1027" y="631"/>
                </a:lnTo>
                <a:lnTo>
                  <a:pt x="1065" y="613"/>
                </a:lnTo>
                <a:lnTo>
                  <a:pt x="1094" y="578"/>
                </a:lnTo>
                <a:lnTo>
                  <a:pt x="1122" y="543"/>
                </a:lnTo>
                <a:lnTo>
                  <a:pt x="1151" y="508"/>
                </a:lnTo>
                <a:lnTo>
                  <a:pt x="1170" y="455"/>
                </a:lnTo>
                <a:lnTo>
                  <a:pt x="1199" y="403"/>
                </a:lnTo>
                <a:lnTo>
                  <a:pt x="1227" y="385"/>
                </a:lnTo>
                <a:lnTo>
                  <a:pt x="1256" y="350"/>
                </a:lnTo>
                <a:lnTo>
                  <a:pt x="1284" y="350"/>
                </a:lnTo>
                <a:lnTo>
                  <a:pt x="1322" y="420"/>
                </a:lnTo>
                <a:lnTo>
                  <a:pt x="1342" y="455"/>
                </a:lnTo>
                <a:lnTo>
                  <a:pt x="1351" y="491"/>
                </a:lnTo>
                <a:lnTo>
                  <a:pt x="1380" y="543"/>
                </a:lnTo>
                <a:lnTo>
                  <a:pt x="1408" y="596"/>
                </a:lnTo>
                <a:lnTo>
                  <a:pt x="1427" y="648"/>
                </a:lnTo>
                <a:lnTo>
                  <a:pt x="1456" y="701"/>
                </a:lnTo>
                <a:lnTo>
                  <a:pt x="1465" y="753"/>
                </a:lnTo>
                <a:lnTo>
                  <a:pt x="1475" y="806"/>
                </a:lnTo>
                <a:lnTo>
                  <a:pt x="1494" y="858"/>
                </a:lnTo>
                <a:lnTo>
                  <a:pt x="1503" y="895"/>
                </a:lnTo>
                <a:lnTo>
                  <a:pt x="1523" y="930"/>
                </a:lnTo>
                <a:lnTo>
                  <a:pt x="1542" y="981"/>
                </a:lnTo>
                <a:lnTo>
                  <a:pt x="1570" y="1016"/>
                </a:lnTo>
                <a:lnTo>
                  <a:pt x="1599" y="1070"/>
                </a:lnTo>
                <a:lnTo>
                  <a:pt x="1627" y="1122"/>
                </a:lnTo>
                <a:lnTo>
                  <a:pt x="1637" y="1070"/>
                </a:lnTo>
                <a:lnTo>
                  <a:pt x="1656" y="1016"/>
                </a:lnTo>
                <a:lnTo>
                  <a:pt x="1665" y="965"/>
                </a:lnTo>
                <a:lnTo>
                  <a:pt x="1675" y="911"/>
                </a:lnTo>
                <a:lnTo>
                  <a:pt x="1675" y="858"/>
                </a:lnTo>
                <a:lnTo>
                  <a:pt x="1694" y="788"/>
                </a:lnTo>
                <a:lnTo>
                  <a:pt x="1703" y="736"/>
                </a:lnTo>
                <a:lnTo>
                  <a:pt x="1723" y="683"/>
                </a:lnTo>
                <a:lnTo>
                  <a:pt x="1751" y="666"/>
                </a:lnTo>
                <a:lnTo>
                  <a:pt x="1780" y="613"/>
                </a:lnTo>
                <a:lnTo>
                  <a:pt x="1808" y="613"/>
                </a:lnTo>
                <a:lnTo>
                  <a:pt x="1837" y="631"/>
                </a:lnTo>
                <a:lnTo>
                  <a:pt x="1846" y="683"/>
                </a:lnTo>
                <a:lnTo>
                  <a:pt x="1865" y="736"/>
                </a:lnTo>
                <a:lnTo>
                  <a:pt x="1875" y="788"/>
                </a:lnTo>
                <a:lnTo>
                  <a:pt x="1904" y="823"/>
                </a:lnTo>
                <a:lnTo>
                  <a:pt x="1923" y="876"/>
                </a:lnTo>
                <a:lnTo>
                  <a:pt x="1942" y="930"/>
                </a:lnTo>
                <a:lnTo>
                  <a:pt x="1961" y="981"/>
                </a:lnTo>
                <a:lnTo>
                  <a:pt x="1989" y="1016"/>
                </a:lnTo>
                <a:lnTo>
                  <a:pt x="2018" y="1035"/>
                </a:lnTo>
                <a:lnTo>
                  <a:pt x="2056" y="1070"/>
                </a:lnTo>
                <a:lnTo>
                  <a:pt x="2094" y="1086"/>
                </a:lnTo>
                <a:lnTo>
                  <a:pt x="2123" y="1086"/>
                </a:lnTo>
                <a:lnTo>
                  <a:pt x="2161" y="1105"/>
                </a:lnTo>
                <a:lnTo>
                  <a:pt x="2189" y="1122"/>
                </a:lnTo>
                <a:lnTo>
                  <a:pt x="2237" y="1122"/>
                </a:lnTo>
                <a:lnTo>
                  <a:pt x="2266" y="1122"/>
                </a:lnTo>
                <a:lnTo>
                  <a:pt x="2294" y="1122"/>
                </a:lnTo>
                <a:lnTo>
                  <a:pt x="2342" y="1122"/>
                </a:lnTo>
                <a:lnTo>
                  <a:pt x="2380" y="1122"/>
                </a:lnTo>
                <a:lnTo>
                  <a:pt x="2408" y="1122"/>
                </a:lnTo>
                <a:lnTo>
                  <a:pt x="2485" y="1122"/>
                </a:lnTo>
                <a:lnTo>
                  <a:pt x="2513" y="1122"/>
                </a:lnTo>
                <a:lnTo>
                  <a:pt x="2570" y="1122"/>
                </a:lnTo>
                <a:lnTo>
                  <a:pt x="2599" y="1122"/>
                </a:lnTo>
                <a:lnTo>
                  <a:pt x="2637" y="1122"/>
                </a:lnTo>
                <a:lnTo>
                  <a:pt x="2694" y="1086"/>
                </a:lnTo>
                <a:lnTo>
                  <a:pt x="2751" y="1070"/>
                </a:lnTo>
                <a:lnTo>
                  <a:pt x="2789" y="1051"/>
                </a:lnTo>
                <a:lnTo>
                  <a:pt x="2818" y="1035"/>
                </a:lnTo>
                <a:lnTo>
                  <a:pt x="2856" y="1000"/>
                </a:lnTo>
                <a:lnTo>
                  <a:pt x="2894" y="965"/>
                </a:lnTo>
                <a:lnTo>
                  <a:pt x="2932" y="911"/>
                </a:lnTo>
                <a:lnTo>
                  <a:pt x="2970" y="858"/>
                </a:lnTo>
                <a:lnTo>
                  <a:pt x="3018" y="823"/>
                </a:lnTo>
                <a:lnTo>
                  <a:pt x="3047" y="788"/>
                </a:lnTo>
                <a:lnTo>
                  <a:pt x="3075" y="753"/>
                </a:lnTo>
                <a:lnTo>
                  <a:pt x="3104" y="736"/>
                </a:lnTo>
                <a:lnTo>
                  <a:pt x="3132" y="701"/>
                </a:lnTo>
                <a:lnTo>
                  <a:pt x="3190" y="666"/>
                </a:lnTo>
                <a:lnTo>
                  <a:pt x="3247" y="596"/>
                </a:lnTo>
                <a:lnTo>
                  <a:pt x="3285" y="578"/>
                </a:lnTo>
                <a:lnTo>
                  <a:pt x="3332" y="543"/>
                </a:lnTo>
                <a:lnTo>
                  <a:pt x="3371" y="526"/>
                </a:lnTo>
                <a:lnTo>
                  <a:pt x="3409" y="508"/>
                </a:lnTo>
                <a:lnTo>
                  <a:pt x="3456" y="473"/>
                </a:lnTo>
                <a:lnTo>
                  <a:pt x="3494" y="455"/>
                </a:lnTo>
                <a:lnTo>
                  <a:pt x="3552" y="420"/>
                </a:lnTo>
                <a:lnTo>
                  <a:pt x="3599" y="403"/>
                </a:lnTo>
                <a:lnTo>
                  <a:pt x="3637" y="385"/>
                </a:lnTo>
                <a:lnTo>
                  <a:pt x="3685" y="350"/>
                </a:lnTo>
                <a:lnTo>
                  <a:pt x="3742" y="333"/>
                </a:lnTo>
                <a:lnTo>
                  <a:pt x="3790" y="315"/>
                </a:lnTo>
                <a:lnTo>
                  <a:pt x="3828" y="298"/>
                </a:lnTo>
                <a:lnTo>
                  <a:pt x="3894" y="263"/>
                </a:lnTo>
                <a:lnTo>
                  <a:pt x="3914" y="245"/>
                </a:lnTo>
                <a:lnTo>
                  <a:pt x="3942" y="228"/>
                </a:lnTo>
                <a:lnTo>
                  <a:pt x="3971" y="210"/>
                </a:lnTo>
                <a:lnTo>
                  <a:pt x="4018" y="193"/>
                </a:lnTo>
                <a:lnTo>
                  <a:pt x="4075" y="175"/>
                </a:lnTo>
                <a:lnTo>
                  <a:pt x="4114" y="158"/>
                </a:lnTo>
                <a:lnTo>
                  <a:pt x="4142" y="140"/>
                </a:lnTo>
                <a:lnTo>
                  <a:pt x="4190" y="123"/>
                </a:lnTo>
                <a:lnTo>
                  <a:pt x="4247" y="105"/>
                </a:lnTo>
                <a:lnTo>
                  <a:pt x="4304" y="88"/>
                </a:lnTo>
                <a:lnTo>
                  <a:pt x="4342" y="70"/>
                </a:lnTo>
                <a:lnTo>
                  <a:pt x="4380" y="70"/>
                </a:lnTo>
                <a:lnTo>
                  <a:pt x="4428" y="70"/>
                </a:lnTo>
                <a:lnTo>
                  <a:pt x="4456" y="70"/>
                </a:lnTo>
                <a:lnTo>
                  <a:pt x="4476" y="70"/>
                </a:lnTo>
                <a:lnTo>
                  <a:pt x="4560" y="57"/>
                </a:lnTo>
                <a:lnTo>
                  <a:pt x="4542" y="0"/>
                </a:lnTo>
                <a:lnTo>
                  <a:pt x="4512" y="57"/>
                </a:lnTo>
              </a:path>
            </a:pathLst>
          </a:custGeom>
          <a:noFill/>
          <a:ln cap="rnd" w="38160">
            <a:solidFill>
              <a:srgbClr val="ff66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6737400" y="2957400"/>
            <a:ext cx="159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13c59"/>
                </a:solidFill>
                <a:latin typeface="Arial"/>
              </a:rPr>
              <a:t>Angažovanosť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2" name="Text Box 24"/>
          <p:cNvSpPr/>
          <p:nvPr/>
        </p:nvSpPr>
        <p:spPr>
          <a:xfrm>
            <a:off x="7053480" y="3962520"/>
            <a:ext cx="145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13c59"/>
                </a:solidFill>
                <a:latin typeface="Arial"/>
              </a:rPr>
              <a:t>Kompetencia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3" name="Line 25"/>
          <p:cNvSpPr/>
          <p:nvPr/>
        </p:nvSpPr>
        <p:spPr>
          <a:xfrm>
            <a:off x="7232760" y="3262320"/>
            <a:ext cx="75960" cy="304920"/>
          </a:xfrm>
          <a:prstGeom prst="line">
            <a:avLst/>
          </a:prstGeom>
          <a:ln w="28440">
            <a:solidFill>
              <a:srgbClr val="013c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4" name="Line 26"/>
          <p:cNvSpPr/>
          <p:nvPr/>
        </p:nvSpPr>
        <p:spPr>
          <a:xfrm>
            <a:off x="7537320" y="4267080"/>
            <a:ext cx="76320" cy="304920"/>
          </a:xfrm>
          <a:prstGeom prst="line">
            <a:avLst/>
          </a:prstGeom>
          <a:ln w="28440">
            <a:solidFill>
              <a:srgbClr val="013c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6775560" y="2332080"/>
            <a:ext cx="171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Entuziastický začiatočník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6" name="Text Box 28"/>
          <p:cNvSpPr/>
          <p:nvPr/>
        </p:nvSpPr>
        <p:spPr>
          <a:xfrm>
            <a:off x="4870440" y="2332080"/>
            <a:ext cx="171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13c59"/>
                </a:solidFill>
                <a:latin typeface="Arial"/>
              </a:rPr>
              <a:t>Rozčarovaný žiak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7" name="Text Box 29"/>
          <p:cNvSpPr/>
          <p:nvPr/>
        </p:nvSpPr>
        <p:spPr>
          <a:xfrm>
            <a:off x="2965320" y="2332080"/>
            <a:ext cx="1719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13c59"/>
                </a:solidFill>
                <a:latin typeface="Arial"/>
              </a:rPr>
              <a:t>Schopný avšak opatrný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8" name="Text Box 30"/>
          <p:cNvSpPr/>
          <p:nvPr/>
        </p:nvSpPr>
        <p:spPr>
          <a:xfrm>
            <a:off x="1060560" y="2332080"/>
            <a:ext cx="171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Plne samostatný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9" name="Text Box 31"/>
          <p:cNvSpPr/>
          <p:nvPr/>
        </p:nvSpPr>
        <p:spPr>
          <a:xfrm>
            <a:off x="7280280" y="119700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13c59"/>
                </a:solidFill>
                <a:latin typeface="Arial"/>
              </a:rPr>
              <a:t>P1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0" name="Text Box 32"/>
          <p:cNvSpPr/>
          <p:nvPr/>
        </p:nvSpPr>
        <p:spPr>
          <a:xfrm>
            <a:off x="5551560" y="119700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13c59"/>
                </a:solidFill>
                <a:latin typeface="Arial"/>
              </a:rPr>
              <a:t>P2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1" name="Text Box 33"/>
          <p:cNvSpPr/>
          <p:nvPr/>
        </p:nvSpPr>
        <p:spPr>
          <a:xfrm>
            <a:off x="3557880" y="119700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13c59"/>
                </a:solidFill>
                <a:latin typeface="Arial"/>
              </a:rPr>
              <a:t>P3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2" name="Text Box 34"/>
          <p:cNvSpPr/>
          <p:nvPr/>
        </p:nvSpPr>
        <p:spPr>
          <a:xfrm>
            <a:off x="1697400" y="126828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13c59"/>
                </a:solidFill>
                <a:latin typeface="Arial"/>
              </a:rPr>
              <a:t>P4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0" y="6672240"/>
            <a:ext cx="9144000" cy="185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3"/>
          <a:stretch/>
        </p:blipFill>
        <p:spPr>
          <a:xfrm>
            <a:off x="4572000" y="6467400"/>
            <a:ext cx="2162160" cy="390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4"/>
          <a:stretch/>
        </p:blipFill>
        <p:spPr>
          <a:xfrm>
            <a:off x="0" y="6467400"/>
            <a:ext cx="4572000" cy="39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F69CA-A470-4D4C-AF3F-96C904B0BBE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2"/>
          <p:cNvSpPr/>
          <p:nvPr/>
        </p:nvSpPr>
        <p:spPr>
          <a:xfrm>
            <a:off x="3657600" y="3048120"/>
            <a:ext cx="685800" cy="1066680"/>
          </a:xfrm>
          <a:prstGeom prst="rtTriangle">
            <a:avLst/>
          </a:prstGeom>
          <a:solidFill>
            <a:srgbClr val="0b6b2a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000" y="907920"/>
            <a:ext cx="8272440" cy="4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5136f0"/>
                </a:solidFill>
                <a:latin typeface="Arial"/>
              </a:rPr>
              <a:t>Ekonomický ukazateľ efektívneho vedenia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49" name="Line 4"/>
          <p:cNvSpPr/>
          <p:nvPr/>
        </p:nvSpPr>
        <p:spPr>
          <a:xfrm>
            <a:off x="3311640" y="2703600"/>
            <a:ext cx="0" cy="2598480"/>
          </a:xfrm>
          <a:prstGeom prst="line">
            <a:avLst/>
          </a:prstGeom>
          <a:ln w="1260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 rot="16200000">
            <a:off x="1213920" y="3562560"/>
            <a:ext cx="2230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13c59"/>
                </a:solidFill>
                <a:latin typeface="Arial"/>
              </a:rPr>
              <a:t>Ekonomický efekt pre  firmu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895480" y="336564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3c59"/>
                </a:solidFill>
                <a:latin typeface="Arial"/>
              </a:rPr>
              <a:t>(+)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2903400" y="461808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3c59"/>
                </a:solidFill>
                <a:latin typeface="Arial"/>
              </a:rPr>
              <a:t>(-)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3935520" y="4997520"/>
            <a:ext cx="2554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13c59"/>
                </a:solidFill>
                <a:latin typeface="Arial"/>
              </a:rPr>
              <a:t>Úrovne rozvoja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3001320" y="3998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3c5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5" name="Arc 10"/>
          <p:cNvSpPr/>
          <p:nvPr/>
        </p:nvSpPr>
        <p:spPr>
          <a:xfrm>
            <a:off x="3657600" y="2779560"/>
            <a:ext cx="2662200" cy="1765440"/>
          </a:xfrm>
          <a:custGeom>
            <a:avLst/>
            <a:gdLst>
              <a:gd name="textAreaLeft" fmla="*/ 0 w 2662200"/>
              <a:gd name="textAreaRight" fmla="*/ 2662560 w 2662200"/>
              <a:gd name="textAreaTop" fmla="*/ 0 h 1765440"/>
              <a:gd name="textAreaBottom" fmla="*/ 1765800 h 1765440"/>
            </a:gdLst>
            <a:ahLst/>
            <a:rect l="textAreaLeft" t="textAreaTop" r="textAreaRight" b="textAreaBottom"/>
            <a:pathLst>
              <a:path fill="none" w="21805" h="21695">
                <a:moveTo>
                  <a:pt x="21805" y="21694"/>
                </a:moveTo>
                <a:cubicBezTo>
                  <a:pt x="21736" y="21694"/>
                  <a:pt x="21668" y="21694"/>
                  <a:pt x="21600" y="21695"/>
                </a:cubicBezTo>
                <a:cubicBezTo>
                  <a:pt x="9670" y="21695"/>
                  <a:pt x="0" y="12024"/>
                  <a:pt x="0" y="95"/>
                </a:cubicBezTo>
                <a:cubicBezTo>
                  <a:pt x="-1" y="63"/>
                  <a:pt x="0" y="31"/>
                  <a:pt x="0" y="0"/>
                </a:cubicBezTo>
              </a:path>
              <a:path stroke="0" w="21805" h="21695">
                <a:moveTo>
                  <a:pt x="21805" y="21694"/>
                </a:moveTo>
                <a:cubicBezTo>
                  <a:pt x="21736" y="21694"/>
                  <a:pt x="21668" y="21694"/>
                  <a:pt x="21600" y="21695"/>
                </a:cubicBezTo>
                <a:cubicBezTo>
                  <a:pt x="9670" y="21695"/>
                  <a:pt x="0" y="12024"/>
                  <a:pt x="0" y="95"/>
                </a:cubicBezTo>
                <a:cubicBezTo>
                  <a:pt x="-1" y="63"/>
                  <a:pt x="0" y="31"/>
                  <a:pt x="0" y="0"/>
                </a:cubicBezTo>
                <a:lnTo>
                  <a:pt x="21600" y="95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5867280" y="4363920"/>
            <a:ext cx="370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5105520" y="4227480"/>
            <a:ext cx="368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3516480" y="2879640"/>
            <a:ext cx="369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9" name="AutoShape 14"/>
          <p:cNvSpPr/>
          <p:nvPr/>
        </p:nvSpPr>
        <p:spPr>
          <a:xfrm>
            <a:off x="4191120" y="3886200"/>
            <a:ext cx="380880" cy="2286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grpSp>
        <p:nvGrpSpPr>
          <p:cNvPr id="160" name="Group 15"/>
          <p:cNvGrpSpPr/>
          <p:nvPr/>
        </p:nvGrpSpPr>
        <p:grpSpPr>
          <a:xfrm>
            <a:off x="3349800" y="3809880"/>
            <a:ext cx="2928600" cy="468360"/>
            <a:chOff x="3349800" y="3809880"/>
            <a:chExt cx="2928600" cy="468360"/>
          </a:xfrm>
        </p:grpSpPr>
        <p:sp>
          <p:nvSpPr>
            <p:cNvPr id="161" name="Line 16"/>
            <p:cNvSpPr/>
            <p:nvPr/>
          </p:nvSpPr>
          <p:spPr>
            <a:xfrm>
              <a:off x="3349800" y="4118400"/>
              <a:ext cx="2865960" cy="0"/>
            </a:xfrm>
            <a:prstGeom prst="line">
              <a:avLst/>
            </a:prstGeom>
            <a:ln w="12600">
              <a:solidFill>
                <a:srgbClr val="013c5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62" name="Line 17"/>
            <p:cNvSpPr/>
            <p:nvPr/>
          </p:nvSpPr>
          <p:spPr>
            <a:xfrm>
              <a:off x="4035240" y="3958560"/>
              <a:ext cx="0" cy="319680"/>
            </a:xfrm>
            <a:prstGeom prst="line">
              <a:avLst/>
            </a:prstGeom>
            <a:ln w="1260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63" name="Line 18"/>
            <p:cNvSpPr/>
            <p:nvPr/>
          </p:nvSpPr>
          <p:spPr>
            <a:xfrm>
              <a:off x="4844880" y="3958560"/>
              <a:ext cx="0" cy="319680"/>
            </a:xfrm>
            <a:prstGeom prst="line">
              <a:avLst/>
            </a:prstGeom>
            <a:ln w="1260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64" name="Line 19"/>
            <p:cNvSpPr/>
            <p:nvPr/>
          </p:nvSpPr>
          <p:spPr>
            <a:xfrm>
              <a:off x="5592600" y="3958560"/>
              <a:ext cx="0" cy="319680"/>
            </a:xfrm>
            <a:prstGeom prst="line">
              <a:avLst/>
            </a:prstGeom>
            <a:ln w="1260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65" name="Line 20"/>
            <p:cNvSpPr/>
            <p:nvPr/>
          </p:nvSpPr>
          <p:spPr>
            <a:xfrm>
              <a:off x="6278400" y="3958560"/>
              <a:ext cx="0" cy="319680"/>
            </a:xfrm>
            <a:prstGeom prst="line">
              <a:avLst/>
            </a:prstGeom>
            <a:ln w="12600">
              <a:solidFill>
                <a:srgbClr val="013c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>
              <a:off x="3490200" y="3809880"/>
              <a:ext cx="498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3c59"/>
                  </a:solidFill>
                  <a:latin typeface="Arial"/>
                </a:rPr>
                <a:t>D4</a:t>
              </a: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67" name="Rectangle 22"/>
            <p:cNvSpPr/>
            <p:nvPr/>
          </p:nvSpPr>
          <p:spPr>
            <a:xfrm>
              <a:off x="4298760" y="3809880"/>
              <a:ext cx="498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3c59"/>
                  </a:solidFill>
                  <a:latin typeface="Arial"/>
                </a:rPr>
                <a:t>D3</a:t>
              </a: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68" name="Rectangle 23"/>
            <p:cNvSpPr/>
            <p:nvPr/>
          </p:nvSpPr>
          <p:spPr>
            <a:xfrm>
              <a:off x="5108760" y="3809880"/>
              <a:ext cx="498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3c59"/>
                  </a:solidFill>
                  <a:latin typeface="Arial"/>
                </a:rPr>
                <a:t>D2</a:t>
              </a: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69" name="Rectangle 24"/>
            <p:cNvSpPr/>
            <p:nvPr/>
          </p:nvSpPr>
          <p:spPr>
            <a:xfrm>
              <a:off x="5734440" y="3809880"/>
              <a:ext cx="495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3c59"/>
                  </a:solidFill>
                  <a:latin typeface="Arial"/>
                </a:rPr>
                <a:t>D1</a:t>
              </a:r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</p:grpSp>
      <p:sp>
        <p:nvSpPr>
          <p:cNvPr id="170" name="Rectangle 25"/>
          <p:cNvSpPr/>
          <p:nvPr/>
        </p:nvSpPr>
        <p:spPr>
          <a:xfrm>
            <a:off x="4049640" y="3693960"/>
            <a:ext cx="370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0" y="559116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138FB-2458-4F2D-A2A5-AEB91C276108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0"/>
          <p:cNvSpPr/>
          <p:nvPr/>
        </p:nvSpPr>
        <p:spPr>
          <a:xfrm>
            <a:off x="6948360" y="1197000"/>
            <a:ext cx="2195640" cy="4068000"/>
          </a:xfrm>
          <a:prstGeom prst="rect">
            <a:avLst/>
          </a:prstGeom>
          <a:solidFill>
            <a:srgbClr val="ff0000"/>
          </a:solidFill>
          <a:ln w="2844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Entuziastický začiatočník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Nízka kompetenci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Vysoká angažovanosť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_____._____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Charakteristik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13c59"/>
                </a:solidFill>
                <a:latin typeface="Arial"/>
              </a:rPr>
              <a:t>Nový ciele alebo úlohy, neskúsený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13c59"/>
                </a:solidFill>
                <a:latin typeface="Arial"/>
              </a:rPr>
              <a:t>Horlivý pre učenie, dobre príma usmernenie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13c59"/>
                </a:solidFill>
                <a:latin typeface="Arial"/>
              </a:rPr>
              <a:t>entuziastický, excitovaný, optimistický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13c59"/>
                </a:solidFill>
                <a:latin typeface="Arial"/>
              </a:rPr>
              <a:t>Nevedia čo nevedia, takže môžu konať chybne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13c59"/>
                </a:solidFill>
                <a:latin typeface="Arial"/>
              </a:rPr>
              <a:t>Dôvera založená na nádeji a prenesených zručnostiach, nereálny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74" name="Rectangle 41"/>
          <p:cNvSpPr/>
          <p:nvPr/>
        </p:nvSpPr>
        <p:spPr>
          <a:xfrm>
            <a:off x="395280" y="341280"/>
            <a:ext cx="812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66"/>
                </a:solidFill>
                <a:latin typeface="Arial"/>
              </a:rPr>
              <a:t>Úroveň osobného rozvoja - c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hara</a:t>
            </a:r>
            <a:r>
              <a:rPr b="1" lang="sk-SK" sz="2400" spc="-1" strike="noStrike">
                <a:solidFill>
                  <a:srgbClr val="003366"/>
                </a:solidFill>
                <a:latin typeface="Arial"/>
              </a:rPr>
              <a:t>kteristika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75" name="Picture 42" descr=""/>
          <p:cNvPicPr/>
          <p:nvPr/>
        </p:nvPicPr>
        <p:blipFill>
          <a:blip r:embed="rId1"/>
          <a:stretch/>
        </p:blipFill>
        <p:spPr>
          <a:xfrm>
            <a:off x="457200" y="4086360"/>
            <a:ext cx="5867280" cy="15951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3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3581280" cy="2421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"/>
          <p:cNvPicPr/>
          <p:nvPr/>
        </p:nvPicPr>
        <p:blipFill>
          <a:blip r:embed="rId3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4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2A6D9-B09E-49A4-B789-2917426682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6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2895840" cy="2197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2"/>
          <a:stretch/>
        </p:blipFill>
        <p:spPr>
          <a:xfrm>
            <a:off x="457200" y="3657600"/>
            <a:ext cx="6172200" cy="18730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8"/>
          <p:cNvSpPr/>
          <p:nvPr/>
        </p:nvSpPr>
        <p:spPr>
          <a:xfrm>
            <a:off x="7020000" y="1197000"/>
            <a:ext cx="2124000" cy="4097160"/>
          </a:xfrm>
          <a:prstGeom prst="rect">
            <a:avLst/>
          </a:prstGeom>
          <a:solidFill>
            <a:srgbClr val="ff6600"/>
          </a:solidFill>
          <a:ln w="2844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D2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Rozčarovaný žiak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Nízka kompetencia v niektorých oblastiach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Nízka angažovanosť </a:t>
            </a:r>
            <a:r>
              <a:rPr b="0" lang="sk-SK" sz="1800" spc="-1" strike="noStrike" u="sng">
                <a:solidFill>
                  <a:srgbClr val="013c59"/>
                </a:solidFill>
                <a:uFillTx/>
                <a:latin typeface="Arial"/>
              </a:rPr>
              <a:t>Charakteristik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13c59"/>
                </a:solidFill>
                <a:latin typeface="Arial"/>
              </a:rPr>
              <a:t>Má určité znalosti a zručnosti, nie je ešte kompetentný.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13c59"/>
                </a:solidFill>
                <a:latin typeface="Arial"/>
              </a:rPr>
              <a:t>Frustrovaný, pripravený odísť.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13c59"/>
                </a:solidFill>
                <a:latin typeface="Arial"/>
              </a:rPr>
              <a:t>Nie je povzbudený, zavalený prácou, zmetený.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13c59"/>
                </a:solidFill>
                <a:latin typeface="Arial"/>
              </a:rPr>
              <a:t>Rozvíja sa a učí, potrebuje uistenie, že chyby sú súčasťou vzdelávacieho procesu.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13c59"/>
                </a:solidFill>
                <a:latin typeface="Arial"/>
              </a:rPr>
              <a:t>Nedôveryhodný, nekonzistentný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3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4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41"/>
          <p:cNvSpPr/>
          <p:nvPr/>
        </p:nvSpPr>
        <p:spPr>
          <a:xfrm>
            <a:off x="395280" y="341280"/>
            <a:ext cx="812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66"/>
                </a:solidFill>
                <a:latin typeface="Arial"/>
              </a:rPr>
              <a:t>Úroveň osobného rozvoja - c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hara</a:t>
            </a:r>
            <a:r>
              <a:rPr b="1" lang="sk-SK" sz="2400" spc="-1" strike="noStrike">
                <a:solidFill>
                  <a:srgbClr val="003366"/>
                </a:solidFill>
                <a:latin typeface="Arial"/>
              </a:rPr>
              <a:t>kteristika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BCD28-1157-4BA1-8A24-E3B06D261D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4"/>
          <p:cNvSpPr/>
          <p:nvPr/>
        </p:nvSpPr>
        <p:spPr>
          <a:xfrm>
            <a:off x="6948360" y="1268280"/>
            <a:ext cx="2195640" cy="4402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013c59"/>
                </a:solidFill>
                <a:latin typeface="Arial"/>
              </a:rPr>
              <a:t>D3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Schopný, avšak opatrný realizátor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Smeruje k vysokej zodpovednosti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Premenlivá zanietenosť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13c59"/>
                </a:solidFill>
                <a:uFillTx/>
                <a:latin typeface="Arial"/>
              </a:rPr>
              <a:t>Charakteristik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13c59"/>
                </a:solidFill>
                <a:latin typeface="Arial"/>
              </a:rPr>
              <a:t>Vo všeobecnosti je samostatný,  ale potrebuje nápady aby sa otestoval s druhými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13c59"/>
                </a:solidFill>
                <a:latin typeface="Arial"/>
              </a:rPr>
              <a:t>Občas váha, je neistý, ovplyvniteľný.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13c59"/>
                </a:solidFill>
                <a:latin typeface="Arial"/>
              </a:rPr>
              <a:t>Nie je vždy dôveryhodný, sebakritický, môže potrebovať pomoc pri získavaní objektívneho náhľadu na zručnosti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13c59"/>
                </a:solidFill>
                <a:latin typeface="Arial"/>
              </a:rPr>
              <a:t>Môže byť unudený z určitých úloh alebo cieľov.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013c59"/>
                </a:solidFill>
                <a:latin typeface="Arial"/>
              </a:rPr>
              <a:t>Prispieva k produktivite.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87" name="Picture 8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2743200" cy="17524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"/>
          <p:cNvPicPr/>
          <p:nvPr/>
        </p:nvPicPr>
        <p:blipFill>
          <a:blip r:embed="rId3"/>
          <a:stretch/>
        </p:blipFill>
        <p:spPr>
          <a:xfrm>
            <a:off x="457200" y="3581280"/>
            <a:ext cx="5257800" cy="15462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41"/>
          <p:cNvSpPr/>
          <p:nvPr/>
        </p:nvSpPr>
        <p:spPr>
          <a:xfrm>
            <a:off x="395280" y="341280"/>
            <a:ext cx="812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66"/>
                </a:solidFill>
                <a:latin typeface="Arial"/>
              </a:rPr>
              <a:t>Úroveň osobného rozvoja - c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hara</a:t>
            </a:r>
            <a:r>
              <a:rPr b="1" lang="sk-SK" sz="2400" spc="-1" strike="noStrike">
                <a:solidFill>
                  <a:srgbClr val="003366"/>
                </a:solidFill>
                <a:latin typeface="Arial"/>
              </a:rPr>
              <a:t>kteristika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4B8BD-9B55-45B0-A847-B816E47A59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3"/>
          <p:cNvSpPr/>
          <p:nvPr/>
        </p:nvSpPr>
        <p:spPr>
          <a:xfrm>
            <a:off x="6945480" y="1197000"/>
            <a:ext cx="2198520" cy="3791160"/>
          </a:xfrm>
          <a:prstGeom prst="rect">
            <a:avLst/>
          </a:prstGeom>
          <a:solidFill>
            <a:srgbClr val="008000"/>
          </a:solidFill>
          <a:ln w="2844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800" spc="-1" strike="noStrike">
                <a:solidFill>
                  <a:srgbClr val="ffffff"/>
                </a:solidFill>
                <a:latin typeface="Arial"/>
              </a:rPr>
              <a:t>D4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Samostatný realizátor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Vysoká kompetenci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Vysoká angažovanosť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ffffff"/>
                </a:solidFill>
                <a:uFillTx/>
                <a:latin typeface="Arial"/>
              </a:rPr>
              <a:t>Charakteristik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ffffff"/>
                </a:solidFill>
                <a:latin typeface="Arial"/>
              </a:rPr>
              <a:t>Uznávaný ostatnými ako expert,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ffffff"/>
                </a:solidFill>
                <a:latin typeface="Arial"/>
              </a:rPr>
              <a:t>Konzistentne kompetentný, uspokojivo dôverný.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ffffff"/>
                </a:solidFill>
                <a:latin typeface="Arial"/>
              </a:rPr>
              <a:t>Dôvera v schopnosť pracovať nezávisle, sebaistý,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ffffff"/>
                </a:solidFill>
                <a:latin typeface="Arial"/>
              </a:rPr>
              <a:t>inšpirovaný, inšpiruje druhých.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100" spc="-1" strike="noStrike">
                <a:solidFill>
                  <a:srgbClr val="ffffff"/>
                </a:solidFill>
                <a:latin typeface="Arial"/>
              </a:rPr>
              <a:t>Pro-aktivny, môže byť žiadaný aby pracoval  veľmi veľa</a:t>
            </a: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91" name="Picture 9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2819160" cy="1808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"/>
          <p:cNvPicPr/>
          <p:nvPr/>
        </p:nvPicPr>
        <p:blipFill>
          <a:blip r:embed="rId2"/>
          <a:stretch/>
        </p:blipFill>
        <p:spPr>
          <a:xfrm>
            <a:off x="457200" y="3657600"/>
            <a:ext cx="5943600" cy="1547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"/>
          <p:cNvPicPr/>
          <p:nvPr/>
        </p:nvPicPr>
        <p:blipFill>
          <a:blip r:embed="rId3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4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41"/>
          <p:cNvSpPr/>
          <p:nvPr/>
        </p:nvSpPr>
        <p:spPr>
          <a:xfrm>
            <a:off x="395280" y="341280"/>
            <a:ext cx="812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66"/>
                </a:solidFill>
                <a:latin typeface="Arial"/>
              </a:rPr>
              <a:t>Úroveň osobného rozvoja - C</a:t>
            </a: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hara</a:t>
            </a:r>
            <a:r>
              <a:rPr b="1" lang="sk-SK" sz="2400" spc="-1" strike="noStrike">
                <a:solidFill>
                  <a:srgbClr val="003366"/>
                </a:solidFill>
                <a:latin typeface="Arial"/>
              </a:rPr>
              <a:t>kteristika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D3822-F043-4B56-B3A7-308F75DBFF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Christopher Manstein</dc:creator>
  <dc:description/>
  <dc:language>en-US</dc:language>
  <cp:lastModifiedBy>Vaclav</cp:lastModifiedBy>
  <dcterms:modified xsi:type="dcterms:W3CDTF">2010-10-15T07:28:04Z</dcterms:modified>
  <cp:revision>768</cp:revision>
  <dc:subject/>
  <dc:title>Euro Crafts 21</dc:title>
</cp:coreProperties>
</file>