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363513-936B-457D-8387-56C5316B9D9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EE890B-7D34-40AD-B4C8-69E55DE82E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63D6123-2EDB-48DB-B068-65B97D443C98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8780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part of the business case is showing that something is wrong with the status quo.  This development level distribution is obviously not ideal, with only 15% of critical tasks being performed at the D4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experience, most clients we work with have percentages within +/- 5% of these perce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66B01E-353E-4771-A81A-528860A724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A438F4B-408A-4512-BBDA-4B380DB444C2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hy does it matter that 35% of critical tasks are performed at Beginner (D1) or Learner (D2) levels?  People performing at these development levels are returning a negative net return to the bottom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tter that another 50% of critical tasks are performed at Capable Performer (D3) levels?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ple performing at the Capable Performer development level are returning significantly less net return to the bottom line than a Self-Reliant Achiever (D4) on the same t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xact return depends on the task being performed).  For example, consider the relative economic return of your top salespeople versus your average salespeople; typically, the 80/20 rule applies (i.e., 80% of the economic return is produced by 20% of the peop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DC50C-C629-4F4B-8368-A51B5A66D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554E-6876-48C3-870C-8C489BBA1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ABC7-A292-4935-A234-334510EC4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468F8-91CD-409B-832A-A5F03B7BD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106B-45B0-4057-A48F-7A92EE42D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A943-906D-4FBA-A5F5-4E3D7EDCF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5E1D-B9B9-4962-B3F0-EB21F7932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C544-B384-4F1E-B3C9-A4DDF2FA3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3815-919D-4231-B4E6-31F996ACA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A90B-826C-448A-BBDB-6DBBAA48C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054C-27B9-402C-85B4-8B72A8414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CB97-FA12-427A-90F2-91F4AD928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8383DE60-8BF3-4A2D-8F11-496A32750FE5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II.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Úroveň rozvoj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A453-8EF9-490D-8E1A-A0A5F53850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el: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03E9-2794-4317-A303-8DB9A697D6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951800" y="1828800"/>
            <a:ext cx="2553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štýly veden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úrovne rozvo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Model Situačného vedenia SL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5866-47B8-40A5-9D81-EDCEE1A80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Úroveň rozvoja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2" name="Picture 45" descr=""/>
          <p:cNvPicPr/>
          <p:nvPr/>
        </p:nvPicPr>
        <p:blipFill>
          <a:blip r:embed="rId1"/>
          <a:stretch/>
        </p:blipFill>
        <p:spPr>
          <a:xfrm>
            <a:off x="1523880" y="2982960"/>
            <a:ext cx="5619960" cy="2001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8"/>
          <p:cNvSpPr/>
          <p:nvPr/>
        </p:nvSpPr>
        <p:spPr>
          <a:xfrm>
            <a:off x="1769760" y="2286000"/>
            <a:ext cx="10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Znalosti,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zručnosti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942840" y="518148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Motivácia,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ngažovanosť, dôver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AutoShape 51"/>
          <p:cNvSpPr/>
          <p:nvPr/>
        </p:nvSpPr>
        <p:spPr>
          <a:xfrm rot="1258200">
            <a:off x="2361960" y="1828800"/>
            <a:ext cx="3581280" cy="609480"/>
          </a:xfrm>
          <a:prstGeom prst="leftArrow">
            <a:avLst>
              <a:gd name="adj1" fmla="val 50000"/>
              <a:gd name="adj2" fmla="val 146899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AutoShape 52"/>
          <p:cNvSpPr/>
          <p:nvPr/>
        </p:nvSpPr>
        <p:spPr>
          <a:xfrm rot="19509000">
            <a:off x="4611240" y="508320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AutoShape 53"/>
          <p:cNvSpPr/>
          <p:nvPr/>
        </p:nvSpPr>
        <p:spPr>
          <a:xfrm rot="1472400">
            <a:off x="2438280" y="5105160"/>
            <a:ext cx="1752840" cy="457200"/>
          </a:xfrm>
          <a:prstGeom prst="leftArrow">
            <a:avLst>
              <a:gd name="adj1" fmla="val 50000"/>
              <a:gd name="adj2" fmla="val 95846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3957-01DC-49DB-8AD3-4A9A2C98E8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0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Kritické rozdelenie úloh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30872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27640" y="498312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422520" y="498312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144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7680" y="5591160"/>
            <a:ext cx="7391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Vypozorované rozdelenie úrovne rozvoja voči kritickým úlohám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13c59"/>
                </a:solidFill>
                <a:latin typeface="Arial"/>
              </a:rPr>
              <a:t>Zdroj</a:t>
            </a:r>
            <a:r>
              <a:rPr b="1" i="1" lang="en-US" sz="1600" spc="-1" strike="noStrike">
                <a:solidFill>
                  <a:srgbClr val="013c59"/>
                </a:solidFill>
                <a:latin typeface="Arial"/>
              </a:rPr>
              <a:t>: Blanchard Field Resear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990720" y="1814400"/>
            <a:ext cx="1892160" cy="1103400"/>
          </a:xfrm>
          <a:prstGeom prst="rect">
            <a:avLst/>
          </a:prstGeom>
          <a:solidFill>
            <a:srgbClr val="0b6b2a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895480" y="1814400"/>
            <a:ext cx="1892520" cy="110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800600" y="1814400"/>
            <a:ext cx="1892160" cy="1103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705720" y="1814400"/>
            <a:ext cx="1892160" cy="1103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347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25296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3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15772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2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062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990720" y="2917800"/>
            <a:ext cx="7606800" cy="2021040"/>
            <a:chOff x="990720" y="2917800"/>
            <a:chExt cx="7606800" cy="2021040"/>
          </a:xfrm>
        </p:grpSpPr>
        <p:sp>
          <p:nvSpPr>
            <p:cNvPr id="125" name="Rectangle 17"/>
            <p:cNvSpPr/>
            <p:nvPr/>
          </p:nvSpPr>
          <p:spPr>
            <a:xfrm>
              <a:off x="99072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289548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480060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670536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Freeform 21"/>
          <p:cNvSpPr/>
          <p:nvPr/>
        </p:nvSpPr>
        <p:spPr>
          <a:xfrm>
            <a:off x="1136520" y="3141720"/>
            <a:ext cx="7317000" cy="1568520"/>
          </a:xfrm>
          <a:custGeom>
            <a:avLst/>
            <a:gdLst>
              <a:gd name="textAreaLeft" fmla="*/ 0 w 7317000"/>
              <a:gd name="textAreaRight" fmla="*/ 7317360 w 73170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609" h="1084">
                <a:moveTo>
                  <a:pt x="0" y="0"/>
                </a:moveTo>
                <a:lnTo>
                  <a:pt x="56" y="12"/>
                </a:lnTo>
                <a:lnTo>
                  <a:pt x="84" y="12"/>
                </a:lnTo>
                <a:lnTo>
                  <a:pt x="132" y="31"/>
                </a:lnTo>
                <a:lnTo>
                  <a:pt x="227" y="47"/>
                </a:lnTo>
                <a:lnTo>
                  <a:pt x="304" y="66"/>
                </a:lnTo>
                <a:lnTo>
                  <a:pt x="351" y="101"/>
                </a:lnTo>
                <a:lnTo>
                  <a:pt x="399" y="119"/>
                </a:lnTo>
                <a:lnTo>
                  <a:pt x="446" y="119"/>
                </a:lnTo>
                <a:lnTo>
                  <a:pt x="504" y="136"/>
                </a:lnTo>
                <a:lnTo>
                  <a:pt x="561" y="154"/>
                </a:lnTo>
                <a:lnTo>
                  <a:pt x="666" y="171"/>
                </a:lnTo>
                <a:lnTo>
                  <a:pt x="789" y="189"/>
                </a:lnTo>
                <a:lnTo>
                  <a:pt x="885" y="224"/>
                </a:lnTo>
                <a:lnTo>
                  <a:pt x="1008" y="276"/>
                </a:lnTo>
                <a:lnTo>
                  <a:pt x="1132" y="311"/>
                </a:lnTo>
                <a:lnTo>
                  <a:pt x="1256" y="329"/>
                </a:lnTo>
                <a:lnTo>
                  <a:pt x="1304" y="346"/>
                </a:lnTo>
                <a:lnTo>
                  <a:pt x="1351" y="381"/>
                </a:lnTo>
                <a:lnTo>
                  <a:pt x="1380" y="399"/>
                </a:lnTo>
                <a:lnTo>
                  <a:pt x="1456" y="416"/>
                </a:lnTo>
                <a:lnTo>
                  <a:pt x="1561" y="451"/>
                </a:lnTo>
                <a:lnTo>
                  <a:pt x="1637" y="486"/>
                </a:lnTo>
                <a:lnTo>
                  <a:pt x="1742" y="504"/>
                </a:lnTo>
                <a:lnTo>
                  <a:pt x="1837" y="539"/>
                </a:lnTo>
                <a:lnTo>
                  <a:pt x="1913" y="558"/>
                </a:lnTo>
                <a:lnTo>
                  <a:pt x="2018" y="574"/>
                </a:lnTo>
                <a:lnTo>
                  <a:pt x="2075" y="593"/>
                </a:lnTo>
                <a:lnTo>
                  <a:pt x="2180" y="609"/>
                </a:lnTo>
                <a:lnTo>
                  <a:pt x="2275" y="628"/>
                </a:lnTo>
                <a:lnTo>
                  <a:pt x="2399" y="644"/>
                </a:lnTo>
                <a:lnTo>
                  <a:pt x="2456" y="679"/>
                </a:lnTo>
                <a:lnTo>
                  <a:pt x="2609" y="679"/>
                </a:lnTo>
                <a:lnTo>
                  <a:pt x="2714" y="698"/>
                </a:lnTo>
                <a:lnTo>
                  <a:pt x="2809" y="698"/>
                </a:lnTo>
                <a:lnTo>
                  <a:pt x="2885" y="714"/>
                </a:lnTo>
                <a:lnTo>
                  <a:pt x="2952" y="733"/>
                </a:lnTo>
                <a:lnTo>
                  <a:pt x="3047" y="733"/>
                </a:lnTo>
                <a:lnTo>
                  <a:pt x="3123" y="749"/>
                </a:lnTo>
                <a:lnTo>
                  <a:pt x="3209" y="768"/>
                </a:lnTo>
                <a:lnTo>
                  <a:pt x="3247" y="768"/>
                </a:lnTo>
                <a:lnTo>
                  <a:pt x="3295" y="784"/>
                </a:lnTo>
                <a:lnTo>
                  <a:pt x="3342" y="803"/>
                </a:lnTo>
                <a:lnTo>
                  <a:pt x="3399" y="803"/>
                </a:lnTo>
                <a:lnTo>
                  <a:pt x="3447" y="803"/>
                </a:lnTo>
                <a:lnTo>
                  <a:pt x="3495" y="819"/>
                </a:lnTo>
                <a:lnTo>
                  <a:pt x="3552" y="838"/>
                </a:lnTo>
                <a:lnTo>
                  <a:pt x="3676" y="838"/>
                </a:lnTo>
                <a:lnTo>
                  <a:pt x="3752" y="854"/>
                </a:lnTo>
                <a:lnTo>
                  <a:pt x="3809" y="889"/>
                </a:lnTo>
                <a:lnTo>
                  <a:pt x="3857" y="889"/>
                </a:lnTo>
                <a:lnTo>
                  <a:pt x="3914" y="908"/>
                </a:lnTo>
                <a:lnTo>
                  <a:pt x="3962" y="961"/>
                </a:lnTo>
                <a:lnTo>
                  <a:pt x="4019" y="961"/>
                </a:lnTo>
                <a:lnTo>
                  <a:pt x="4076" y="978"/>
                </a:lnTo>
                <a:lnTo>
                  <a:pt x="4123" y="996"/>
                </a:lnTo>
                <a:lnTo>
                  <a:pt x="4162" y="1013"/>
                </a:lnTo>
                <a:lnTo>
                  <a:pt x="4200" y="1013"/>
                </a:lnTo>
                <a:lnTo>
                  <a:pt x="4247" y="1031"/>
                </a:lnTo>
                <a:lnTo>
                  <a:pt x="4295" y="1048"/>
                </a:lnTo>
                <a:lnTo>
                  <a:pt x="4352" y="1048"/>
                </a:lnTo>
                <a:lnTo>
                  <a:pt x="4419" y="1066"/>
                </a:lnTo>
                <a:lnTo>
                  <a:pt x="4447" y="1066"/>
                </a:lnTo>
                <a:lnTo>
                  <a:pt x="4485" y="1066"/>
                </a:lnTo>
                <a:lnTo>
                  <a:pt x="4543" y="1083"/>
                </a:lnTo>
                <a:lnTo>
                  <a:pt x="4571" y="1083"/>
                </a:lnTo>
                <a:lnTo>
                  <a:pt x="4608" y="1060"/>
                </a:lnTo>
              </a:path>
            </a:pathLst>
          </a:custGeom>
          <a:noFill/>
          <a:ln cap="rnd" w="38160">
            <a:solidFill>
              <a:srgbClr val="fe5815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212840" y="3048120"/>
            <a:ext cx="7240680" cy="1738080"/>
          </a:xfrm>
          <a:custGeom>
            <a:avLst/>
            <a:gdLst>
              <a:gd name="textAreaLeft" fmla="*/ 0 w 7240680"/>
              <a:gd name="textAreaRight" fmla="*/ 7241040 w 7240680"/>
              <a:gd name="textAreaTop" fmla="*/ 0 h 1738080"/>
              <a:gd name="textAreaBottom" fmla="*/ 1738440 h 1738080"/>
            </a:gdLst>
            <a:ahLst/>
            <a:rect l="textAreaLeft" t="textAreaTop" r="textAreaRight" b="textAreaBottom"/>
            <a:pathLst>
              <a:path w="4561" h="1123">
                <a:moveTo>
                  <a:pt x="0" y="233"/>
                </a:moveTo>
                <a:lnTo>
                  <a:pt x="56" y="193"/>
                </a:lnTo>
                <a:lnTo>
                  <a:pt x="103" y="193"/>
                </a:lnTo>
                <a:lnTo>
                  <a:pt x="151" y="193"/>
                </a:lnTo>
                <a:lnTo>
                  <a:pt x="198" y="210"/>
                </a:lnTo>
                <a:lnTo>
                  <a:pt x="237" y="228"/>
                </a:lnTo>
                <a:lnTo>
                  <a:pt x="294" y="245"/>
                </a:lnTo>
                <a:lnTo>
                  <a:pt x="351" y="263"/>
                </a:lnTo>
                <a:lnTo>
                  <a:pt x="398" y="298"/>
                </a:lnTo>
                <a:lnTo>
                  <a:pt x="437" y="333"/>
                </a:lnTo>
                <a:lnTo>
                  <a:pt x="494" y="350"/>
                </a:lnTo>
                <a:lnTo>
                  <a:pt x="541" y="368"/>
                </a:lnTo>
                <a:lnTo>
                  <a:pt x="579" y="403"/>
                </a:lnTo>
                <a:lnTo>
                  <a:pt x="608" y="420"/>
                </a:lnTo>
                <a:lnTo>
                  <a:pt x="656" y="455"/>
                </a:lnTo>
                <a:lnTo>
                  <a:pt x="694" y="473"/>
                </a:lnTo>
                <a:lnTo>
                  <a:pt x="732" y="508"/>
                </a:lnTo>
                <a:lnTo>
                  <a:pt x="760" y="526"/>
                </a:lnTo>
                <a:lnTo>
                  <a:pt x="789" y="543"/>
                </a:lnTo>
                <a:lnTo>
                  <a:pt x="837" y="561"/>
                </a:lnTo>
                <a:lnTo>
                  <a:pt x="875" y="578"/>
                </a:lnTo>
                <a:lnTo>
                  <a:pt x="913" y="596"/>
                </a:lnTo>
                <a:lnTo>
                  <a:pt x="941" y="596"/>
                </a:lnTo>
                <a:lnTo>
                  <a:pt x="970" y="613"/>
                </a:lnTo>
                <a:lnTo>
                  <a:pt x="999" y="631"/>
                </a:lnTo>
                <a:lnTo>
                  <a:pt x="1027" y="631"/>
                </a:lnTo>
                <a:lnTo>
                  <a:pt x="1065" y="613"/>
                </a:lnTo>
                <a:lnTo>
                  <a:pt x="1094" y="578"/>
                </a:lnTo>
                <a:lnTo>
                  <a:pt x="1122" y="543"/>
                </a:lnTo>
                <a:lnTo>
                  <a:pt x="1151" y="508"/>
                </a:lnTo>
                <a:lnTo>
                  <a:pt x="1170" y="455"/>
                </a:lnTo>
                <a:lnTo>
                  <a:pt x="1199" y="403"/>
                </a:lnTo>
                <a:lnTo>
                  <a:pt x="1227" y="385"/>
                </a:lnTo>
                <a:lnTo>
                  <a:pt x="1256" y="350"/>
                </a:lnTo>
                <a:lnTo>
                  <a:pt x="1284" y="350"/>
                </a:lnTo>
                <a:lnTo>
                  <a:pt x="1322" y="420"/>
                </a:lnTo>
                <a:lnTo>
                  <a:pt x="1342" y="455"/>
                </a:lnTo>
                <a:lnTo>
                  <a:pt x="1351" y="491"/>
                </a:lnTo>
                <a:lnTo>
                  <a:pt x="1380" y="543"/>
                </a:lnTo>
                <a:lnTo>
                  <a:pt x="1408" y="596"/>
                </a:lnTo>
                <a:lnTo>
                  <a:pt x="1427" y="648"/>
                </a:lnTo>
                <a:lnTo>
                  <a:pt x="1456" y="701"/>
                </a:lnTo>
                <a:lnTo>
                  <a:pt x="1465" y="753"/>
                </a:lnTo>
                <a:lnTo>
                  <a:pt x="1475" y="806"/>
                </a:lnTo>
                <a:lnTo>
                  <a:pt x="1494" y="858"/>
                </a:lnTo>
                <a:lnTo>
                  <a:pt x="1503" y="895"/>
                </a:lnTo>
                <a:lnTo>
                  <a:pt x="1523" y="930"/>
                </a:lnTo>
                <a:lnTo>
                  <a:pt x="1542" y="981"/>
                </a:lnTo>
                <a:lnTo>
                  <a:pt x="1570" y="1016"/>
                </a:lnTo>
                <a:lnTo>
                  <a:pt x="1599" y="1070"/>
                </a:lnTo>
                <a:lnTo>
                  <a:pt x="1627" y="1122"/>
                </a:lnTo>
                <a:lnTo>
                  <a:pt x="1637" y="1070"/>
                </a:lnTo>
                <a:lnTo>
                  <a:pt x="1656" y="1016"/>
                </a:lnTo>
                <a:lnTo>
                  <a:pt x="1665" y="965"/>
                </a:lnTo>
                <a:lnTo>
                  <a:pt x="1675" y="911"/>
                </a:lnTo>
                <a:lnTo>
                  <a:pt x="1675" y="858"/>
                </a:lnTo>
                <a:lnTo>
                  <a:pt x="1694" y="788"/>
                </a:lnTo>
                <a:lnTo>
                  <a:pt x="1703" y="736"/>
                </a:lnTo>
                <a:lnTo>
                  <a:pt x="1723" y="683"/>
                </a:lnTo>
                <a:lnTo>
                  <a:pt x="1751" y="666"/>
                </a:lnTo>
                <a:lnTo>
                  <a:pt x="1780" y="613"/>
                </a:lnTo>
                <a:lnTo>
                  <a:pt x="1808" y="613"/>
                </a:lnTo>
                <a:lnTo>
                  <a:pt x="1837" y="631"/>
                </a:lnTo>
                <a:lnTo>
                  <a:pt x="1846" y="683"/>
                </a:lnTo>
                <a:lnTo>
                  <a:pt x="1865" y="736"/>
                </a:lnTo>
                <a:lnTo>
                  <a:pt x="1875" y="788"/>
                </a:lnTo>
                <a:lnTo>
                  <a:pt x="1904" y="823"/>
                </a:lnTo>
                <a:lnTo>
                  <a:pt x="1923" y="876"/>
                </a:lnTo>
                <a:lnTo>
                  <a:pt x="1942" y="930"/>
                </a:lnTo>
                <a:lnTo>
                  <a:pt x="1961" y="981"/>
                </a:lnTo>
                <a:lnTo>
                  <a:pt x="1989" y="1016"/>
                </a:lnTo>
                <a:lnTo>
                  <a:pt x="2018" y="1035"/>
                </a:lnTo>
                <a:lnTo>
                  <a:pt x="2056" y="1070"/>
                </a:lnTo>
                <a:lnTo>
                  <a:pt x="2094" y="1086"/>
                </a:lnTo>
                <a:lnTo>
                  <a:pt x="2123" y="1086"/>
                </a:lnTo>
                <a:lnTo>
                  <a:pt x="2161" y="1105"/>
                </a:lnTo>
                <a:lnTo>
                  <a:pt x="2189" y="1122"/>
                </a:lnTo>
                <a:lnTo>
                  <a:pt x="2237" y="1122"/>
                </a:lnTo>
                <a:lnTo>
                  <a:pt x="2266" y="1122"/>
                </a:lnTo>
                <a:lnTo>
                  <a:pt x="2294" y="1122"/>
                </a:lnTo>
                <a:lnTo>
                  <a:pt x="2342" y="1122"/>
                </a:lnTo>
                <a:lnTo>
                  <a:pt x="2380" y="1122"/>
                </a:lnTo>
                <a:lnTo>
                  <a:pt x="2408" y="1122"/>
                </a:lnTo>
                <a:lnTo>
                  <a:pt x="2485" y="1122"/>
                </a:lnTo>
                <a:lnTo>
                  <a:pt x="2513" y="1122"/>
                </a:lnTo>
                <a:lnTo>
                  <a:pt x="2570" y="1122"/>
                </a:lnTo>
                <a:lnTo>
                  <a:pt x="2599" y="1122"/>
                </a:lnTo>
                <a:lnTo>
                  <a:pt x="2637" y="1122"/>
                </a:lnTo>
                <a:lnTo>
                  <a:pt x="2694" y="1086"/>
                </a:lnTo>
                <a:lnTo>
                  <a:pt x="2751" y="1070"/>
                </a:lnTo>
                <a:lnTo>
                  <a:pt x="2789" y="1051"/>
                </a:lnTo>
                <a:lnTo>
                  <a:pt x="2818" y="1035"/>
                </a:lnTo>
                <a:lnTo>
                  <a:pt x="2856" y="1000"/>
                </a:lnTo>
                <a:lnTo>
                  <a:pt x="2894" y="965"/>
                </a:lnTo>
                <a:lnTo>
                  <a:pt x="2932" y="911"/>
                </a:lnTo>
                <a:lnTo>
                  <a:pt x="2970" y="858"/>
                </a:lnTo>
                <a:lnTo>
                  <a:pt x="3018" y="823"/>
                </a:lnTo>
                <a:lnTo>
                  <a:pt x="3047" y="788"/>
                </a:lnTo>
                <a:lnTo>
                  <a:pt x="3075" y="753"/>
                </a:lnTo>
                <a:lnTo>
                  <a:pt x="3104" y="736"/>
                </a:lnTo>
                <a:lnTo>
                  <a:pt x="3132" y="701"/>
                </a:lnTo>
                <a:lnTo>
                  <a:pt x="3190" y="666"/>
                </a:lnTo>
                <a:lnTo>
                  <a:pt x="3247" y="596"/>
                </a:lnTo>
                <a:lnTo>
                  <a:pt x="3285" y="578"/>
                </a:lnTo>
                <a:lnTo>
                  <a:pt x="3332" y="543"/>
                </a:lnTo>
                <a:lnTo>
                  <a:pt x="3371" y="526"/>
                </a:lnTo>
                <a:lnTo>
                  <a:pt x="3409" y="508"/>
                </a:lnTo>
                <a:lnTo>
                  <a:pt x="3456" y="473"/>
                </a:lnTo>
                <a:lnTo>
                  <a:pt x="3494" y="455"/>
                </a:lnTo>
                <a:lnTo>
                  <a:pt x="3552" y="420"/>
                </a:lnTo>
                <a:lnTo>
                  <a:pt x="3599" y="403"/>
                </a:lnTo>
                <a:lnTo>
                  <a:pt x="3637" y="385"/>
                </a:lnTo>
                <a:lnTo>
                  <a:pt x="3685" y="350"/>
                </a:lnTo>
                <a:lnTo>
                  <a:pt x="3742" y="333"/>
                </a:lnTo>
                <a:lnTo>
                  <a:pt x="3790" y="315"/>
                </a:lnTo>
                <a:lnTo>
                  <a:pt x="3828" y="298"/>
                </a:lnTo>
                <a:lnTo>
                  <a:pt x="3894" y="263"/>
                </a:lnTo>
                <a:lnTo>
                  <a:pt x="3914" y="245"/>
                </a:lnTo>
                <a:lnTo>
                  <a:pt x="3942" y="228"/>
                </a:lnTo>
                <a:lnTo>
                  <a:pt x="3971" y="210"/>
                </a:lnTo>
                <a:lnTo>
                  <a:pt x="4018" y="193"/>
                </a:lnTo>
                <a:lnTo>
                  <a:pt x="4075" y="175"/>
                </a:lnTo>
                <a:lnTo>
                  <a:pt x="4114" y="158"/>
                </a:lnTo>
                <a:lnTo>
                  <a:pt x="4142" y="140"/>
                </a:lnTo>
                <a:lnTo>
                  <a:pt x="4190" y="123"/>
                </a:lnTo>
                <a:lnTo>
                  <a:pt x="4247" y="105"/>
                </a:lnTo>
                <a:lnTo>
                  <a:pt x="4304" y="88"/>
                </a:lnTo>
                <a:lnTo>
                  <a:pt x="4342" y="70"/>
                </a:lnTo>
                <a:lnTo>
                  <a:pt x="4380" y="70"/>
                </a:lnTo>
                <a:lnTo>
                  <a:pt x="4428" y="70"/>
                </a:lnTo>
                <a:lnTo>
                  <a:pt x="4456" y="70"/>
                </a:lnTo>
                <a:lnTo>
                  <a:pt x="4476" y="70"/>
                </a:lnTo>
                <a:lnTo>
                  <a:pt x="4560" y="57"/>
                </a:lnTo>
                <a:lnTo>
                  <a:pt x="4542" y="0"/>
                </a:lnTo>
                <a:lnTo>
                  <a:pt x="4512" y="57"/>
                </a:lnTo>
              </a:path>
            </a:pathLst>
          </a:custGeom>
          <a:noFill/>
          <a:ln cap="rnd" w="38160">
            <a:solidFill>
              <a:srgbClr val="ff66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737400" y="29574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ngažovanosť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7053480" y="396252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Kompetenci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7232760" y="3262320"/>
            <a:ext cx="7596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537320" y="4267080"/>
            <a:ext cx="7632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775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tuziastický začiatoční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87044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Rozčarovaný žia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96532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Schopný avšak opatrný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1060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lne samostatný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2802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55156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5578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1697400" y="1268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4572000" y="6467400"/>
            <a:ext cx="216216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4"/>
          <a:stretch/>
        </p:blipFill>
        <p:spPr>
          <a:xfrm>
            <a:off x="0" y="6467400"/>
            <a:ext cx="4572000" cy="3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C43C-999F-44E6-B4C3-C71B3FD8D5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3657600" y="3048120"/>
            <a:ext cx="685800" cy="1066680"/>
          </a:xfrm>
          <a:prstGeom prst="rtTriangle">
            <a:avLst/>
          </a:prstGeom>
          <a:solidFill>
            <a:srgbClr val="0b6b2a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7244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Ekonomický ukazateľ efektívneho vedeni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3311640" y="2703600"/>
            <a:ext cx="0" cy="2598480"/>
          </a:xfrm>
          <a:prstGeom prst="line">
            <a:avLst/>
          </a:prstGeom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 rot="16200000">
            <a:off x="1213920" y="3562560"/>
            <a:ext cx="223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Ekonomický efekt pre  firmu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895480" y="3365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+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03400" y="461808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-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35520" y="4997520"/>
            <a:ext cx="255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Úrovne rozvoj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001320" y="399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3c5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Arc 10"/>
          <p:cNvSpPr/>
          <p:nvPr/>
        </p:nvSpPr>
        <p:spPr>
          <a:xfrm>
            <a:off x="3657600" y="2779560"/>
            <a:ext cx="2662200" cy="17654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765440"/>
              <a:gd name="textAreaBottom" fmla="*/ 1765800 h 1765440"/>
            </a:gdLst>
            <a:ahLst/>
            <a:rect l="textAreaLeft" t="textAreaTop" r="textAreaRight" b="textAreaBottom"/>
            <a:pathLst>
              <a:path fill="none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</a:path>
              <a:path stroke="0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  <a:lnTo>
                  <a:pt x="21600" y="95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867280" y="436392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105520" y="422748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3516480" y="2879640"/>
            <a:ext cx="36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4191120" y="3886200"/>
            <a:ext cx="38088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3349800" y="3809880"/>
            <a:ext cx="2928600" cy="468360"/>
            <a:chOff x="3349800" y="3809880"/>
            <a:chExt cx="2928600" cy="468360"/>
          </a:xfrm>
        </p:grpSpPr>
        <p:sp>
          <p:nvSpPr>
            <p:cNvPr id="161" name="Line 16"/>
            <p:cNvSpPr/>
            <p:nvPr/>
          </p:nvSpPr>
          <p:spPr>
            <a:xfrm>
              <a:off x="3349800" y="4118400"/>
              <a:ext cx="2865960" cy="0"/>
            </a:xfrm>
            <a:prstGeom prst="line">
              <a:avLst/>
            </a:prstGeom>
            <a:ln w="12600">
              <a:solidFill>
                <a:srgbClr val="013c5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403524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484488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55926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62784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49020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4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429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510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5734440" y="3809880"/>
              <a:ext cx="49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70" name="Rectangle 25"/>
          <p:cNvSpPr/>
          <p:nvPr/>
        </p:nvSpPr>
        <p:spPr>
          <a:xfrm>
            <a:off x="4049640" y="369396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30DF-C042-4594-B2D7-E988F529E433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0"/>
          <p:cNvSpPr/>
          <p:nvPr/>
        </p:nvSpPr>
        <p:spPr>
          <a:xfrm>
            <a:off x="6948360" y="1197000"/>
            <a:ext cx="2195640" cy="4068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Entuziastický začiatoční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kompeten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ysoká angažova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ový ciele alebo úlohy, neskúsen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Horlivý pre učenie, dobre príma usmerneni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entuziastický, excitovaný, optimistick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evedia čo nevedia, takže môžu konať chybn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Dôvera založená na nádeji a prenesených zručnostiach, nereáln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5" name="Picture 42" descr=""/>
          <p:cNvPicPr/>
          <p:nvPr/>
        </p:nvPicPr>
        <p:blipFill>
          <a:blip r:embed="rId1"/>
          <a:stretch/>
        </p:blipFill>
        <p:spPr>
          <a:xfrm>
            <a:off x="457200" y="4086360"/>
            <a:ext cx="5867280" cy="159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81280" cy="2421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A2F43-DB9E-4796-8669-FB131D357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89584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6172200" cy="1873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7020000" y="1197000"/>
            <a:ext cx="2124000" cy="4097160"/>
          </a:xfrm>
          <a:prstGeom prst="rect">
            <a:avLst/>
          </a:prstGeom>
          <a:solidFill>
            <a:srgbClr val="ff66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Rozčarovaný žia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kompetencia v niektorých oblastia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angažovanosť </a:t>
            </a:r>
            <a:r>
              <a:rPr b="0" lang="sk-SK" sz="1800" spc="-1" strike="noStrike" u="sng">
                <a:solidFill>
                  <a:srgbClr val="013c59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Má určité znalosti a zručnosti, nie je ešte kompetent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Frustrovaný, pripravený odísť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ie je povzbudený, zavalený prácou, zmete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Rozvíja sa a učí, potrebuje uistenie, že chyby sú súčasťou vzdelávacieho procesu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edôveryhodný, nekonzistentn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C6C8-1CBF-4FE0-B01E-6703B85A9E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6948360" y="1268280"/>
            <a:ext cx="2195640" cy="4402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chopný, avšak opatrný realizáto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meruje k vysokej zodpovednost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emenlivá zaniete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13c59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Vo všeobecnosti je samostatný,  ale potrebuje nápady aby sa otestoval s druhými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Občas váha, je neistý, ovplyvniteľ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ie je vždy dôveryhodný, sebakritický, môže potrebovať pomoc pri získavaní objektívneho náhľadu na zručnosti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Môže byť unudený z určitých úloh alebo cieľov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Prispieva k produktivite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5257800" cy="1546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DF35-1399-40C3-8F0A-A3B530756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6945480" y="1197000"/>
            <a:ext cx="2198520" cy="3791160"/>
          </a:xfrm>
          <a:prstGeom prst="rect">
            <a:avLst/>
          </a:prstGeom>
          <a:solidFill>
            <a:srgbClr val="008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ffff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Samostatný realizáto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ysoká kompeten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ysoká angažova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ffffff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Uznávaný ostatnými ako expert,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Konzistentne kompetentný, uspokojivo dôver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Dôvera v schopnosť pracovať nezávisle, sebaistý,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inšpirovaný, inšpiruje druhých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Pro-aktivny, môže byť žiadaný aby pracoval  veľmi veľa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819160" cy="180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5943600" cy="154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DDFF-1145-49C7-9115-57644B219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5T07:28:04Z</dcterms:modified>
  <cp:revision>768</cp:revision>
  <dc:subject/>
  <dc:title>Euro Crafts 21</dc:title>
</cp:coreProperties>
</file>