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EE28-A18E-41AC-96BF-BE9880107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4681-7772-4912-AB35-4EB16B367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61913-53FB-4ACE-9487-7867B5617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9A85-1C3E-49A5-9F5D-196E79A48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CD2F-33B5-431C-808D-F457FB772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20AB-9F06-4960-891F-0CBA9ADAF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2363-8D94-4B83-90B3-A7B9A8442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E313-6B92-42FB-BEFD-3978143C7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23882-9526-4CE5-8F8A-CD86782B1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F7630-AAFD-4BD8-9DDC-975B615C5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6C85-4173-4DC9-96C9-B00A90620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D945D-5172-4E9C-9A62-FE57AA43C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8E8E9D97-C1DB-419C-9159-A517014C93B9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Situačné vodcovstvo 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Proces neustáleho zlepčovanie LZ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CE46-6410-4606-B642-A2295D0B46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40680" y="1844640"/>
            <a:ext cx="5662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V rámci všetkých štyroch štýlov líder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Objasňuje očakávania a ciel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leduje - monitoruje výkonnosť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457200" indent="-457200">
              <a:buClr>
                <a:srgbClr val="9294b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Poskytuje spätnú väzbu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2" name="Šípka dolu 5"/>
          <p:cNvSpPr/>
          <p:nvPr/>
        </p:nvSpPr>
        <p:spPr>
          <a:xfrm>
            <a:off x="3130560" y="37893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efe8d1"/>
          </a:solidFill>
          <a:ln w="9360">
            <a:solidFill>
              <a:srgbClr val="013c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Obdĺžnik 6"/>
          <p:cNvSpPr/>
          <p:nvPr/>
        </p:nvSpPr>
        <p:spPr>
          <a:xfrm>
            <a:off x="1354320" y="5230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0000"/>
                </a:solidFill>
                <a:latin typeface="Arial"/>
              </a:rPr>
              <a:t>Proces nepretržitého zlepšovani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B09A-4EF9-4092-9F53-BF8167A73E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3544920" cy="457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EDCAA-69EF-4FC0-A71E-B570AAAD6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545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28760" y="162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Objasnenie očakávaní a cieľov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BlokTextu 7"/>
          <p:cNvSpPr/>
          <p:nvPr/>
        </p:nvSpPr>
        <p:spPr>
          <a:xfrm>
            <a:off x="968400" y="3068640"/>
            <a:ext cx="70372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tanovenie individuálnych cieľov, ako „rozdrobnenie“ cieľov firemný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očet cieľov: 3 – 5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 M A R T  !!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ezentácia a vzájomná dohoda na plnení cieľov pri spoločnom stretnutí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(môžu byť využité aj prvky „SL“...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nutnosť aj písomnej formy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2F05D-46E8-4E09-B46A-35D9E999E0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8040" y="545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68400" y="162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Sledovanie – monitorovanie výkonnosti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BlokTextu 7"/>
          <p:cNvSpPr/>
          <p:nvPr/>
        </p:nvSpPr>
        <p:spPr>
          <a:xfrm>
            <a:off x="968400" y="3068640"/>
            <a:ext cx="70372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avideľné spoločné prehodnocovanie individuálnych cieľov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eriodicita: min. 1x za 3 mesiace – krátke neformálne stretnuti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ehodnotenie princípov S M A R T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vzájomná dohoda na ďalšom postupe pri plnení cieľov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odporúčanie aj písomnej formy – dôležitejších bodov stretnutia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4AD5-3D59-4A86-8AF0-587FB611E1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8040" y="545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Proces nepretržitého zlepšovania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68400" y="162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Spätná väzba – „feedback“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BlokTextu 7"/>
          <p:cNvSpPr/>
          <p:nvPr/>
        </p:nvSpPr>
        <p:spPr>
          <a:xfrm>
            <a:off x="968400" y="3068640"/>
            <a:ext cx="75675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ravideľné spoločné prehodnocovanie/vyhodnotenie individuálnych cieľov (A/N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periodicita: min. 1x za 6 mesiacov (iste 1x ročne!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dôvody úspechu (neúspechu) pri dosahovaní jednotlivých cieľov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vzájomná dohoda na ďalšom postupe pri plnení cieľov – na ďaľšie obdobi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ff0000"/>
                </a:solidFill>
                <a:latin typeface="Arial"/>
              </a:rPr>
              <a:t>PERSONÁLNY ROZVOJOVÝ PLÁN 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&gt;&gt;&gt; proces neustáleho rozvoj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nutnosť aj písomnej formy!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5EFD-8AC2-4D72-9E9A-A4465E6BD6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Zástupný symbol päty 1"/>
          <p:cNvSpPr/>
          <p:nvPr/>
        </p:nvSpPr>
        <p:spPr>
          <a:xfrm>
            <a:off x="12852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September 2004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graphicFrame>
        <p:nvGraphicFramePr>
          <p:cNvPr id="114" name="Object 0"/>
          <p:cNvGraphicFramePr/>
          <p:nvPr/>
        </p:nvGraphicFramePr>
        <p:xfrm>
          <a:off x="468360" y="189000"/>
          <a:ext cx="808812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808812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E529-541E-4486-9A39-6C04DB4463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47680" y="5257800"/>
            <a:ext cx="745488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85400"/>
            <a:ext cx="7521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MOTTO 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2049480" y="163152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800000"/>
                </a:solidFill>
                <a:latin typeface="Comic Sans MS"/>
              </a:rPr>
              <a:t>Čo mi povieš, to zabudnem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800000"/>
                </a:solidFill>
                <a:latin typeface="Comic Sans MS"/>
              </a:rPr>
              <a:t>Čo mi ukážeš, na to si spomeniem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Čo ma necháš robiť, tomu rozumiem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0" name="obrázky1" descr=""/>
          <p:cNvPicPr/>
          <p:nvPr/>
        </p:nvPicPr>
        <p:blipFill>
          <a:blip r:embed="rId3"/>
          <a:stretch/>
        </p:blipFill>
        <p:spPr>
          <a:xfrm>
            <a:off x="3130560" y="3068640"/>
            <a:ext cx="1441440" cy="2513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608040" y="5593680"/>
            <a:ext cx="648648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300" spc="-1" strike="noStrike">
                <a:solidFill>
                  <a:srgbClr val="800000"/>
                </a:solidFill>
                <a:latin typeface="Comic Sans MS"/>
              </a:rPr>
              <a:t>Konfuciu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800000"/>
                </a:solidFill>
                <a:latin typeface="Comic Sans MS"/>
              </a:rPr>
              <a:t>Čínsky filozof, zakladateľ konfucionizmu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*551 pred n.l. Chu-fu -  t 479 pred n.l. Chu-fu</a:t>
            </a:r>
            <a:r>
              <a:rPr b="1" lang="sk-SK" sz="1500" spc="-1" strike="noStrike">
                <a:solidFill>
                  <a:srgbClr val="800000"/>
                </a:solidFill>
                <a:latin typeface="Comic Sans MS"/>
                <a:ea typeface="Lucida Sans Unicode"/>
              </a:rPr>
              <a:t>  </a:t>
            </a:r>
            <a:endParaRPr b="0" lang="en-US" sz="15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543D-2CAD-4768-89A2-F7BB9640AF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59280" y="306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7c48"/>
                </a:solidFill>
                <a:latin typeface="Arial"/>
              </a:rPr>
              <a:t>Jozef Rapant, 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03640" y="501336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BBFE-7BE3-49D1-862A-B7786687AD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00:06Z</dcterms:modified>
  <cp:revision>767</cp:revision>
  <dc:subject/>
  <dc:title>Euro Crafts 21</dc:title>
</cp:coreProperties>
</file>