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A9D28-CDC9-4B5F-B44B-FCE9C2C7A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4E87F-06A4-43F7-A8B2-5259DC377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F9709-194A-47FD-9F35-95FE34C4D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8B3BE-3037-4E0B-8216-33B020AA7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E7825-4016-44BB-802D-A3FB2904E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C655D-7918-4EDA-AD37-0D19D1680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D1B0-48C3-413E-9030-BEB535619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E3E3F-03B3-42A2-9800-998482C53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E16AB-0A0B-4A3D-A76D-F21A2C434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2D61F-9269-42CA-9607-A8B102615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B50B-0929-4D28-B137-54A5AB1EA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E0E8-0F24-485D-AFBF-BABD9E3D5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1EA6B52A-675F-49F5-ACF9-8123E1C40584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Projekt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Euro Crafts 21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13c59"/>
                </a:solidFill>
                <a:latin typeface="Arial"/>
              </a:rPr>
              <a:t>Situačné vodcovstvo 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13c59"/>
                </a:solidFill>
                <a:latin typeface="Arial"/>
              </a:rPr>
              <a:t>Proces neustáleho zlepčovanie LZ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35120" y="3494160"/>
            <a:ext cx="5842080" cy="2022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11640" y="3494160"/>
            <a:ext cx="3529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62440" y="5424480"/>
            <a:ext cx="31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(</a:t>
            </a:r>
            <a:r>
              <a:rPr b="0" lang="sk-SK" sz="1400" spc="-1" strike="noStrike">
                <a:solidFill>
                  <a:srgbClr val="013c59"/>
                </a:solidFill>
                <a:latin typeface="Arial"/>
              </a:rPr>
              <a:t>č. projektu</a:t>
            </a: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: LLP-LDV/TOI-08-AT-0015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C2C43-E789-46BF-AFF2-B3B49D582A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40680" y="1844640"/>
            <a:ext cx="5662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V rámci všetkých štyroch štýlov líder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457200" indent="-457200">
              <a:buClr>
                <a:srgbClr val="9294b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Objasňuje očakávania a ciele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457200" indent="-457200">
              <a:buClr>
                <a:srgbClr val="9294b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Sleduje - monitoruje výkonnosť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457200" indent="-457200">
              <a:buClr>
                <a:srgbClr val="9294b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Poskytuje spätnú väzbu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92" name="Šípka dolu 5"/>
          <p:cNvSpPr/>
          <p:nvPr/>
        </p:nvSpPr>
        <p:spPr>
          <a:xfrm>
            <a:off x="3130560" y="378936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efe8d1"/>
          </a:solidFill>
          <a:ln w="9360">
            <a:solidFill>
              <a:srgbClr val="013c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3" name="Obdĺžnik 6"/>
          <p:cNvSpPr/>
          <p:nvPr/>
        </p:nvSpPr>
        <p:spPr>
          <a:xfrm>
            <a:off x="1354320" y="523080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0000"/>
                </a:solidFill>
                <a:latin typeface="Arial"/>
              </a:rPr>
              <a:t>Proces nepretržitého zlepšovani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C09C-1108-4D66-A75F-94CF704397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3544920" cy="457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3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5136f0"/>
                </a:solidFill>
                <a:latin typeface="Arial"/>
              </a:rPr>
              <a:t>Proces nepretržitého zlepšovania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1FEB5-0A34-4390-A942-4F6FDC4EC1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8040" y="545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136f0"/>
                </a:solidFill>
                <a:latin typeface="Arial"/>
              </a:rPr>
              <a:t>Proces nepretržitého zlepšovania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28760" y="162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Objasnenie očakávaní a cieľov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2" name="BlokTextu 7"/>
          <p:cNvSpPr/>
          <p:nvPr/>
        </p:nvSpPr>
        <p:spPr>
          <a:xfrm>
            <a:off x="968400" y="3068640"/>
            <a:ext cx="7037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stanovenie individuálnych cieľov, ako „rozdrobnenie“ cieľov firemných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počet cieľov: 3 – 5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S M A R T  !!!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prezentácia a vzájomná dohoda na plnení cieľov pri spoločnom stretnutí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(môžu byť využité aj prvky „SL“...)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nutnosť aj písomnej formy!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130B-DC10-47E5-A630-0ECAA3291B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8040" y="545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136f0"/>
                </a:solidFill>
                <a:latin typeface="Arial"/>
              </a:rPr>
              <a:t>Proces nepretržitého zlepšovania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68400" y="162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Sledovanie – monitorovanie výkonnosti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7" name="BlokTextu 7"/>
          <p:cNvSpPr/>
          <p:nvPr/>
        </p:nvSpPr>
        <p:spPr>
          <a:xfrm>
            <a:off x="968400" y="3068640"/>
            <a:ext cx="7037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pravideľné spoločné prehodnocovanie individuálnych cieľov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periodicita: min. 1x za 3 mesiace – krátke neformálne stretnutie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prehodnotenie princípov S M A R T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vzájomná dohoda na ďalšom postupe pri plnení cieľov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odporúčanie aj písomnej formy – dôležitejších bodov stretnutia!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72AB-474D-414A-B53A-BFFD9E2269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8040" y="545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136f0"/>
                </a:solidFill>
                <a:latin typeface="Arial"/>
              </a:rPr>
              <a:t>Proces nepretržitého zlepšovania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68400" y="162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Spätná väzba – „feedback“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2" name="BlokTextu 7"/>
          <p:cNvSpPr/>
          <p:nvPr/>
        </p:nvSpPr>
        <p:spPr>
          <a:xfrm>
            <a:off x="968400" y="3068640"/>
            <a:ext cx="75675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pravideľné spoločné prehodnocovanie/vyhodnotenie individuálnych cieľov (A/N)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periodicita: min. 1x za 6 mesiacov (iste 1x ročne!)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dôvody úspechu (neúspechu) pri dosahovaní jednotlivých cieľov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vzájomná dohoda na ďalšom postupe pri plnení cieľov – na ďaľšie obdobie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ff0000"/>
                </a:solidFill>
                <a:latin typeface="Arial"/>
              </a:rPr>
              <a:t>PERSONÁLNY ROZVOJOVÝ PLÁN 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&gt;&gt;&gt; proces neustáleho rozvoja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nutnosť aj písomnej formy!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B649D-A3C1-4964-8692-2EA672D6F1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Zástupný symbol päty 1"/>
          <p:cNvSpPr/>
          <p:nvPr/>
        </p:nvSpPr>
        <p:spPr>
          <a:xfrm>
            <a:off x="12852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September 2004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114" name="Object 0"/>
          <p:cNvGraphicFramePr/>
          <p:nvPr/>
        </p:nvGraphicFramePr>
        <p:xfrm>
          <a:off x="468360" y="189000"/>
          <a:ext cx="8088120" cy="638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8088120" cy="63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67D56-55C7-4A1A-B85D-E3FF8BB5AC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47680" y="5257800"/>
            <a:ext cx="745488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85400"/>
            <a:ext cx="7521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5136f0"/>
                </a:solidFill>
                <a:latin typeface="Arial"/>
              </a:rPr>
              <a:t>MOTTO 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2049480" y="1631520"/>
            <a:ext cx="43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800000"/>
                </a:solidFill>
                <a:latin typeface="Comic Sans MS"/>
              </a:rPr>
              <a:t>Čo mi povieš, to zabudnem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800000"/>
                </a:solidFill>
                <a:latin typeface="Comic Sans MS"/>
              </a:rPr>
              <a:t>Čo mi ukážeš, na to si spomeniem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800000"/>
                </a:solidFill>
                <a:latin typeface="Comic Sans MS"/>
                <a:ea typeface="Lucida Sans Unicode"/>
              </a:rPr>
              <a:t>Čo ma necháš robiť, tomu rozumiem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20" name="obrázky1" descr=""/>
          <p:cNvPicPr/>
          <p:nvPr/>
        </p:nvPicPr>
        <p:blipFill>
          <a:blip r:embed="rId3"/>
          <a:stretch/>
        </p:blipFill>
        <p:spPr>
          <a:xfrm>
            <a:off x="3130560" y="3068640"/>
            <a:ext cx="1441440" cy="25131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608040" y="5593680"/>
            <a:ext cx="648648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300" spc="-1" strike="noStrike">
                <a:solidFill>
                  <a:srgbClr val="800000"/>
                </a:solidFill>
                <a:latin typeface="Comic Sans MS"/>
              </a:rPr>
              <a:t>Konfucius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800000"/>
                </a:solidFill>
                <a:latin typeface="Comic Sans MS"/>
              </a:rPr>
              <a:t>Čínsky filozof, zakladateľ konfucionizmu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800000"/>
                </a:solidFill>
                <a:latin typeface="Comic Sans MS"/>
                <a:ea typeface="Lucida Sans Unicode"/>
              </a:rPr>
              <a:t>*551 pred n.l. Chu-fu -  t 479 pred n.l. Chu-fu</a:t>
            </a:r>
            <a:r>
              <a:rPr b="1" lang="sk-SK" sz="1500" spc="-1" strike="noStrike">
                <a:solidFill>
                  <a:srgbClr val="800000"/>
                </a:solidFill>
                <a:latin typeface="Comic Sans MS"/>
                <a:ea typeface="Lucida Sans Unicode"/>
              </a:rPr>
              <a:t>  </a:t>
            </a:r>
            <a:endParaRPr b="0" lang="en-US" sz="15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BD995-3E86-42C9-B29B-F299F85877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Ďakujeme za pozornosť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771560"/>
            <a:ext cx="66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9933"/>
                </a:solidFill>
                <a:uFillTx/>
                <a:latin typeface="Arial"/>
              </a:rPr>
              <a:t>http://www.eurocrafts21.eu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66ff"/>
                </a:solidFill>
                <a:latin typeface="Arial"/>
              </a:rPr>
              <a:t>Kontakt</a:t>
            </a: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Trenčianska regionálna komora SOP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Jilemnického 10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Phone: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032-6525797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E-Mail: </a:t>
            </a:r>
            <a:r>
              <a:rPr b="0" lang="sk-SK" sz="1800" spc="-1" strike="noStrike" u="sng">
                <a:solidFill>
                  <a:srgbClr val="0066ff"/>
                </a:solidFill>
                <a:uFillTx/>
                <a:latin typeface="Arial"/>
              </a:rPr>
              <a:t>sopkrktn@sopk.s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Internet: </a:t>
            </a:r>
            <a:r>
              <a:rPr b="0" lang="sk-SK" sz="1800" spc="-1" strike="noStrike" u="sng">
                <a:solidFill>
                  <a:srgbClr val="0066ff"/>
                </a:solidFill>
                <a:uFillTx/>
                <a:latin typeface="Arial"/>
              </a:rPr>
              <a:t>www.komora.nam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85720" y="1878120"/>
            <a:ext cx="2313000" cy="1538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59280" y="306864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e7c48"/>
                </a:solidFill>
                <a:latin typeface="Arial"/>
              </a:rPr>
              <a:t>Jozef Rapant, www.lifehelp.s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4932360" y="3716280"/>
            <a:ext cx="2324160" cy="1050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003640" y="5013360"/>
            <a:ext cx="2629080" cy="113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2795E-405E-4F2B-9F7B-40F4B2879B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0T15:00:06Z</dcterms:modified>
  <cp:revision>767</cp:revision>
  <dc:subject/>
  <dc:title>Euro Crafts 21</dc:title>
</cp:coreProperties>
</file>