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7592-3660-4395-8D03-EBED5C0DD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5947-3000-4EAA-BB29-0BCB199FB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3DCC-E3DD-40A9-B000-FE130648A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DC243-BC43-4930-8A3D-729D66AD63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4FC2-3097-4AC2-B367-EA8AF303D6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5DB6-C65B-4E15-8A7B-E39C2D5E3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CD73-009C-410B-BA7A-612AE66A6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F6B9-1F98-443B-B713-69106A391B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C2F9-E517-4F8F-986C-6843F63667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D69E-64AF-4291-B91D-22CD55E64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B0615-20AB-456F-A02A-496DAE917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58234-0740-451E-A519-9B9ECC036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31D9-1D8D-4CC5-B2E5-246B3C7C94D8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M</a:t>
            </a:r>
            <a:r>
              <a:rPr b="1" lang="sk-SK" sz="3600" spc="-1" strike="noStrike">
                <a:solidFill>
                  <a:srgbClr val="808080"/>
                </a:solidFill>
                <a:latin typeface="Arial"/>
              </a:rPr>
              <a:t>ARKETINGOVÉ CIELE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Modul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 S</a:t>
            </a:r>
            <a:r>
              <a:rPr b="0" lang="sk-SK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-A1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719F9-B4F7-4C00-8778-C4138143B4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sk-SK" sz="1600" spc="-1" strike="noStrike">
                <a:solidFill>
                  <a:srgbClr val="808080"/>
                </a:solidFill>
                <a:latin typeface="Arial"/>
              </a:rPr>
              <a:t>Zdroj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Ingo Rauhut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0" i="1" lang="de-DE" sz="1400" spc="-1" strike="noStrike">
                <a:solidFill>
                  <a:srgbClr val="808080"/>
                </a:solidFill>
                <a:latin typeface="Arial"/>
              </a:rPr>
              <a:t>Westdeutscher Handwerkskammertag (Ed.): CD-ROM: </a:t>
            </a:r>
            <a:r>
              <a:rPr b="0" i="1" lang="sk-SK" sz="1400" spc="-1" strike="noStrike">
                <a:solidFill>
                  <a:srgbClr val="808080"/>
                </a:solidFill>
                <a:latin typeface="Arial"/>
              </a:rPr>
              <a:t>Manažment udržateľného rastu v odvetví živností. Príručka implementácie kvalifikačného  a konzultačného konceptu pre poradcov a vyučujúcich pre sektor remesiel. Výsledky z pilotného projektu</a:t>
            </a:r>
            <a:r>
              <a:rPr b="0" i="1" lang="de-AT" sz="1400" spc="-1" strike="noStrike">
                <a:solidFill>
                  <a:srgbClr val="808080"/>
                </a:solidFill>
                <a:latin typeface="Arial"/>
              </a:rPr>
              <a:t>, Düsseldorf (Westdeutscher Handwerkskammertag (Hrsg.): CD-ROM: Nachhaltiges Wirtschaften in Handwerksbetrieben. Eine Handreichung zur Durchführung eines Qualifizierungs- und Beratungskonzeptes für Betriebsberater/-innen und Dozenten/-innen im Handwerk.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Ergebnisse aus einem Modellversuch, Düsseldorf).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777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ncep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ný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rke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680160" cy="17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ro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.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: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Aká je súčasná pozíci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nal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ýz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účasnej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situ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áci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187280" y="4581360"/>
            <a:ext cx="7490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et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ód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Vyhodnocovanie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napr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interné/ 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e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bahodnotenie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a anal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ýza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s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ilných a slabých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0" lang="sk-SK" sz="2400" spc="-1" strike="noStrike">
                <a:solidFill>
                  <a:srgbClr val="808080"/>
                </a:solidFill>
                <a:latin typeface="Arial"/>
              </a:rPr>
              <a:t>stránok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403280" y="1341360"/>
            <a:ext cx="6840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Krok č.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: </a:t>
            </a: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Kam sa chceme dostať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Stanovenie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marketing</a:t>
            </a:r>
            <a:r>
              <a:rPr b="1" lang="sk-SK" sz="2800" spc="-1" strike="noStrike">
                <a:solidFill>
                  <a:srgbClr val="808080"/>
                </a:solidFill>
                <a:latin typeface="Arial"/>
              </a:rPr>
              <a:t>ových cieľov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185840" y="3500280"/>
            <a:ext cx="74898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rátk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1-3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y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tredn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4-5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o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lh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6-10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o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1640" y="1989000"/>
            <a:ext cx="7041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rátk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2708280"/>
            <a:ext cx="6750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-3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y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viac e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onomic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orient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vané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amerané na predaj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ra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is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odiel na trhu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1403280" y="1916280"/>
            <a:ext cx="7042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rátkodobé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31640" y="2708280"/>
            <a:ext cx="7127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hceme zvýšiť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aše predaj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ra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isk o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X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percent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o roku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0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«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aším cieľom je dosiahnuť s našim  produktovým sortimentom podiel na trhu XY percent do roku 20XX</a:t>
            </a:r>
            <a:r>
              <a:rPr b="0" lang="sk-SK" sz="20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«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476360" y="1557360"/>
            <a:ext cx="704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trednodobé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lhodobé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619280" y="2421000"/>
            <a:ext cx="69850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4-5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ko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zamerané predovšetkým na zákazníka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imidž spoločnost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rozpoznanie obchodnej značky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pokojnosť zákazník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atď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90760" y="2455560"/>
            <a:ext cx="7029360" cy="32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-18432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Chceme, aby si naši klienti spájali našu spoločnosť s ekologicky šetrným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produktmi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do roku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0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«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-18432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Našim cieľom je zvýšenie povedomia o značk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našej spoločnosti o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X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%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do roku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0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«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-18432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»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Našim cieľom je zvýšenie spokojnosti zákazníkov o XY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% 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do roku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20</a:t>
            </a:r>
            <a:r>
              <a:rPr b="1" lang="sk-SK" sz="2000" spc="-1" strike="noStrike">
                <a:solidFill>
                  <a:srgbClr val="808080"/>
                </a:solidFill>
                <a:latin typeface="Arial"/>
              </a:rPr>
              <a:t>XX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«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332000" y="1628640"/>
            <a:ext cx="704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trednodobé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a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lhodobé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le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o musíme vziať do úvahy pri formulovaní cieľov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…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507080" cy="36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pokiaľ ide o obsah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o by sa malo dosiahnuť?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cieľovú sumu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Koľko by sa malo dosiahnuť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časový horizon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Do kedy majú byť dosiahnuté stanovené ciele?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oblasť použiti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Na ktoré oblast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(obchodný segmen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regi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ó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n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atď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) </a:t>
            </a:r>
            <a:r>
              <a:rPr b="1" lang="sk-SK" sz="2400" spc="-1" strike="noStrike">
                <a:solidFill>
                  <a:srgbClr val="808080"/>
                </a:solidFill>
                <a:latin typeface="Arial"/>
              </a:rPr>
              <a:t>sa vzťahujú naše ciel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to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ancovaný s podporo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Eur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ó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ke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. 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áto publikácia odráža len názory autora 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mi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ia nepreberá zodpovednosť za akékoľvek použitie v nej obsiahnutých informácií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Leonardo da Vinci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 Euro Crafts 21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a realizuje pod správou plén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– s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p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o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ločnosť pre komplexne udržateľný rozvoj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Factor 10 Institute Austria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ieľom toht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u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je vytvoriť významnú pridanú hodnotu v oblasti odborného vzdelávania v Rakúsku a zúčastnených partnerských krajiná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F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í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Slov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en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Španiel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Maďars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Toto bude dosiahnuté prostredníctvom transféru inovácií z už ukončených pilotných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proje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–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s dôrazom na rozvoj a 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t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ovan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celkovej kvalifikácie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a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 poradenský koncept zameraný na management udržateľného rastu v odvetví živností v regióne severného Porýni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est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fálska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 (</a:t>
            </a:r>
            <a:r>
              <a:rPr b="0" i="1" lang="sk-SK" sz="1800" spc="-1" strike="noStrike">
                <a:solidFill>
                  <a:srgbClr val="808080"/>
                </a:solidFill>
                <a:latin typeface="Arial"/>
              </a:rPr>
              <a:t>Nemecko</a:t>
            </a: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Vaclav</cp:lastModifiedBy>
  <cp:lastPrinted>2005-02-10T15:49:31Z</cp:lastPrinted>
  <dcterms:modified xsi:type="dcterms:W3CDTF">2010-09-26T08:51:00Z</dcterms:modified>
  <cp:revision>106</cp:revision>
  <dc:subject/>
  <dc:title>Kein Folientitel</dc:title>
</cp:coreProperties>
</file>