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162D-3FA9-425B-9A33-68107A336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59CF-BE0B-41A7-A29C-BD12FB92E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3511-8356-4AB8-A2D8-8FA97EC80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4D5A-131C-4D4C-88AB-0FFDCF18E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BF73-2C6E-4D5D-AD62-88BB2D9BE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AC6C-C8F0-4BF0-9A18-7E7057A99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B5FE-AF21-41F3-8D6E-3208D846F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9168-15FB-4C65-BCB6-81F2212F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4500-38DF-4BE6-93C4-19A3933F9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6A58-45B5-4BBC-8E5E-AD15F5921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EFF60-53CD-4152-B635-4CFA4EB4B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1CD8-8B1E-4AED-B54A-3A417CDE0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4A7-0232-4C4F-8C61-09366B5022F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ARKETINGOVÉ CIELE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-A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7265-C5EF-43FF-84CD-E2EB1C2D84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ncep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ný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680160" cy="17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.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ká je súčasná pozíc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al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ýz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účasnej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situ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ác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4581360"/>
            <a:ext cx="7490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et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ód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Vyhodnocovanie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napr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nterné/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e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bahodnotenie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a anal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ýza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lných a slabých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stráno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403280" y="1341360"/>
            <a:ext cx="6840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Krok č.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: 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Kam sa chceme dostať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Stanovenie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marketing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ových cieľov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1-3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4-5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6-10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989000"/>
            <a:ext cx="7041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708280"/>
            <a:ext cx="6750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-3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iac e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nomic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orient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vané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amerané na predaj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ra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is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iel na trh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1403280" y="1916280"/>
            <a:ext cx="7042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1640" y="2708280"/>
            <a:ext cx="7127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hceme zvýšiť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še predaj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ra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isk o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X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ercent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ším cieľom je dosiahnuť s našim  produktovým sortimentom podiel na trhu XY percent do roku 20XX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«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476360" y="1557360"/>
            <a:ext cx="704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4-5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amerané predovšetkým na zákazník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imidž spoločnost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zpoznanie obchodnej znač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pokojnosť zákazník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hceme, aby si naši klienti spájali našu spoločnosť s ekologicky šetrný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roduktmi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im cieľom je zvýšenie povedomia o značk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ej spoločnosti o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%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im cieľom je zvýšenie spokojnosti zákazníkov o X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%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1628640"/>
            <a:ext cx="704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o musíme vziať do úvahy pri formulovaní cieľov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0708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kiaľ ide o 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o by sa malo dosiahnuť?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ú sumu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oľko by sa malo dosiahnuť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asový horizon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o kedy majú byť dosiahnuté stanovené ciele?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lasť použit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 ktoré oblast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(obchodný segmen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regi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)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a vzťahujú naše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Vaclav</cp:lastModifiedBy>
  <cp:lastPrinted>2005-02-10T15:49:31Z</cp:lastPrinted>
  <dcterms:modified xsi:type="dcterms:W3CDTF">2010-09-26T08:51:00Z</dcterms:modified>
  <cp:revision>106</cp:revision>
  <dc:subject/>
  <dc:title>Kein Folientitel</dc:title>
</cp:coreProperties>
</file>