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6E13-35AC-427E-AB44-484DF18B7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0739-06D0-4FF8-96EF-CA9B848F3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4255-7FFE-445C-87CE-E5EC50F0AC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4463-9413-4B72-A7FE-27540001B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A797-474D-467E-8518-1F5222CC4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AECA-9729-4028-91C5-1AE1B7DAB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F4B0-C0C8-4108-A9CC-5CEED3B0FA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DEE1-55CD-4723-A012-ECF365400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3573-EDD0-4426-B9A7-2F01CD342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0354-F5FC-456E-B3E2-5469F34EC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C6A35-FAD6-4B1B-BCCE-10AC68FCE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1853-60B7-4C86-B088-D7150E656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DABF531C-4247-4059-8938-88A607EB0765}" type="slidenum">
              <a:rPr b="0" lang="en-US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n.sopk.sk/" TargetMode="External"/><Relationship Id="rId2" Type="http://schemas.openxmlformats.org/officeDocument/2006/relationships/hyperlink" Target="http://www.indprop/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02040" y="2060640"/>
            <a:ext cx="66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5136f0"/>
                </a:solidFill>
                <a:latin typeface="Arial"/>
              </a:rPr>
              <a:t>Marketing a informácie o trhu patentov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87280" y="4365720"/>
            <a:ext cx="6767640" cy="2342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62240" y="3427560"/>
            <a:ext cx="26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27ab6"/>
                </a:solidFill>
                <a:latin typeface="Arial"/>
              </a:rPr>
              <a:t>24.8.2010, Trenčín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2F03-F7FF-4832-958E-0945538D18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77724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informácie = kľúčový faktor v hosp. procese v 21. stor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využitie informácií o existujúcich patentoch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najnovší technologický pokrok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identifikovanie budúcich partnerov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spoznanie inovatívnych aktivít konkurencie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040" y="907920"/>
            <a:ext cx="788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Význam informácií pre marketingové ciele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B62DB-04FB-4770-9824-9142F7B72E3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Pre vývoj a uvedenie na trh nového výrobku či služby je vhodné vykonať marketingový prieskum. Z organizačno- nákladového hľadiska je vhodné aby podnik vykonal prieskum patentový prieskum. Tento môže výrazne urýchliť zavedenie výrobku, či služby, zabráni vymýšľaniu vymysleného prípadne môže viesť k vstupu do partnerstva s vlastníkom myšlienky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V každej krajine pôsobí  národná autorita napojená na európsky a svetový informačný systém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lnSpc>
                <a:spcPct val="80000"/>
              </a:lnSpc>
              <a:spcBef>
                <a:spcPts val="400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e5815"/>
                </a:solidFill>
                <a:latin typeface="Arial"/>
              </a:rPr>
              <a:t>Svetová organizácia duševného vlastníctva (www.WIPO.int)</a:t>
            </a:r>
            <a:endParaRPr b="0" lang="en-US" sz="16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lnSpc>
                <a:spcPct val="80000"/>
              </a:lnSpc>
              <a:spcBef>
                <a:spcPts val="400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e5815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fe5815"/>
                </a:solidFill>
                <a:latin typeface="Arial"/>
              </a:rPr>
              <a:t>Európsky patentový úrad (www.EPO.org)</a:t>
            </a:r>
            <a:endParaRPr b="0" lang="en-US" sz="16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lnSpc>
                <a:spcPct val="80000"/>
              </a:lnSpc>
              <a:spcBef>
                <a:spcPts val="400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e5815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fe5815"/>
                </a:solidFill>
                <a:latin typeface="Arial"/>
              </a:rPr>
              <a:t>Úrad pre harmonizáciu vnútorného trhu (www.oami.europa.eu )</a:t>
            </a:r>
            <a:endParaRPr b="0" lang="en-US" sz="1600" spc="-1" strike="noStrike">
              <a:solidFill>
                <a:srgbClr val="bc956e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árodná autorita poskytuje služby a poradenstvo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- Rešeržné služby, monitoring, preddiagnostika...</a:t>
            </a:r>
            <a:endParaRPr b="0" lang="en-US" sz="1400" spc="-1" strike="noStrike">
              <a:solidFill>
                <a:srgbClr val="bc956e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Národná autorita disponuje databázami poskytujúcimi informácie o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lnSpc>
                <a:spcPct val="80000"/>
              </a:lnSpc>
              <a:spcBef>
                <a:spcPts val="34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 </a:t>
            </a: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Patentoch, úžitkové vzory, dizajny</a:t>
            </a:r>
            <a:endParaRPr b="0" lang="en-US" sz="14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lnSpc>
                <a:spcPct val="80000"/>
              </a:lnSpc>
              <a:spcBef>
                <a:spcPts val="34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  </a:t>
            </a: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ochranných známkach</a:t>
            </a:r>
            <a:endParaRPr b="0" lang="en-US" sz="14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lnSpc>
                <a:spcPct val="80000"/>
              </a:lnSpc>
              <a:spcBef>
                <a:spcPts val="34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 </a:t>
            </a:r>
            <a:r>
              <a:rPr b="0" lang="sk-SK" sz="1400" spc="-1" strike="noStrike">
                <a:solidFill>
                  <a:srgbClr val="fe5815"/>
                </a:solidFill>
                <a:latin typeface="Arial"/>
              </a:rPr>
              <a:t>dodatkových ochranných osvedčeniach, pôvodu výrobkov  a zemepisnom označení</a:t>
            </a:r>
            <a:endParaRPr b="0" lang="en-US" sz="14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bc956e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977760"/>
            <a:ext cx="788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66ff"/>
                </a:solidFill>
                <a:latin typeface="Arial"/>
              </a:rPr>
              <a:t>Sieť autorít - informácie o trhu - služby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0AF4B-C48D-42C5-B6B5-60EDD1482E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2491920"/>
            <a:ext cx="77724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databázy úradu na internete – www.upv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ESPACENET – sk.espacenet.com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študovňa ÚPV S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strediská patentových informácií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kontaktné informačné miest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040" y="907920"/>
            <a:ext cx="788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atentové databázy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75DB-1118-45A1-9C36-902075FB011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2390400"/>
            <a:ext cx="777240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e5815"/>
                </a:solidFill>
                <a:latin typeface="Arial"/>
              </a:rPr>
              <a:t>Vecne príslušný národný patentový úrad (ÚPV SR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e5815"/>
                </a:solidFill>
                <a:latin typeface="Arial"/>
              </a:rPr>
              <a:t>Madrid Express Database (WIPO)</a:t>
            </a:r>
            <a:br>
              <a:rPr sz="1800"/>
            </a:b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- údaje o medzinárodných prihláškach ochranných známok a designáciách, ktoré prijal Medzinárodný úrad v Ženeve, ale ktoré ešte nie sú zapísané v medzinárodnom registri známo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e5815"/>
                </a:solidFill>
                <a:latin typeface="Arial"/>
              </a:rPr>
              <a:t>ROMARIN (WIPO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e5815"/>
                </a:solidFill>
                <a:latin typeface="Arial"/>
              </a:rPr>
              <a:t>CTM-Online (OHIM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- databáza ochranných známok Spoločenstva s účinkom na celom území Európskej úni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040" y="907920"/>
            <a:ext cx="788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Databázy ochranných známok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781A-E769-410D-956E-0592935DA54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640" y="2390400"/>
            <a:ext cx="777240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13c59"/>
                </a:solidFill>
                <a:latin typeface="Arial"/>
              </a:rPr>
              <a:t>Nástroj pre pomoc malým a stredným podnikom, ktoré v dostatočnej miere neochraňujú svoje inovácie kvôli chýbajúcej informovanosti alebo nesprávnej podnikateľskej stratégii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Cieľom prediagnostiky je analyzovať situáciu v podniku, oboznámiť ho s možnosťami priemyselnoprávnej ochrany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Výhodná cena: bezplatn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040" y="907920"/>
            <a:ext cx="788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Pred diagnostika priemyselných práv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59C0-1AD5-4F4E-854A-1DC593C83C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00040" y="620640"/>
            <a:ext cx="788832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66ff"/>
                </a:solidFill>
                <a:latin typeface="Arial"/>
              </a:rPr>
              <a:t>Ďakujem za pozornosť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771560"/>
            <a:ext cx="66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33"/>
                </a:solidFill>
                <a:uFillTx/>
                <a:latin typeface="Arial"/>
              </a:rPr>
              <a:t>http://www.eurocrafts21.e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66ff"/>
                </a:solidFill>
                <a:latin typeface="Arial"/>
              </a:rPr>
              <a:t>Kontakt</a:t>
            </a: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Ing. Ján Václav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Trenčianska regionálna komora SOP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sk-SK" sz="1800" spc="-1" strike="noStrike" u="sng">
                <a:solidFill>
                  <a:srgbClr val="bc956e"/>
                </a:solidFill>
                <a:uFillTx/>
                <a:latin typeface="Arial"/>
                <a:hlinkClick r:id="rId1"/>
              </a:rPr>
              <a:t>www.tn.sopk.s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Ing. Marian Michalovský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13c59"/>
                </a:solidFill>
                <a:latin typeface="Arial"/>
              </a:rPr>
              <a:t>Úrad priemyselného vlastníctva SR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3c59"/>
                </a:solidFill>
                <a:latin typeface="Arial"/>
              </a:rPr>
              <a:t>Internet: </a:t>
            </a:r>
            <a:r>
              <a:rPr b="0" lang="sk-SK" sz="1600" spc="-1" strike="noStrike" u="sng">
                <a:solidFill>
                  <a:srgbClr val="bc956e"/>
                </a:solidFill>
                <a:uFillTx/>
                <a:latin typeface="Arial"/>
                <a:hlinkClick r:id="rId2"/>
              </a:rPr>
              <a:t>www.indprop.gov.s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85720" y="1878120"/>
            <a:ext cx="2313000" cy="1538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148360" y="3645000"/>
            <a:ext cx="2628720" cy="113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5148360" y="5084640"/>
          <a:ext cx="1173240" cy="117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5084640"/>
                    <a:ext cx="11732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B9306-614D-46C9-ACAA-D75C14382F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Vaclav</cp:lastModifiedBy>
  <dcterms:modified xsi:type="dcterms:W3CDTF">2010-09-26T11:51:02Z</dcterms:modified>
  <cp:revision>788</cp:revision>
  <dc:subject/>
  <dc:title>Euro Crafts 21</dc:title>
</cp:coreProperties>
</file>