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D8124-DC5F-4C39-A803-12DC787A57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84CEB-AD54-440F-83CD-9EB2F6AC47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F0576-F943-4E4F-A0E6-9B82CEF64D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BEE45-2ABC-4D8F-B71A-A473F78504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0315E-2F76-4319-AA1A-51171E49E1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D4AEA-07B4-4EF7-9C5F-BA1A7B6483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63573-D1C2-4DDB-AECD-75CA3AB6DE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1FD15-84EA-4D2B-A712-98EDA9EBCB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8A10A-F9BD-4AFC-BD80-D3FF9589F9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E4515-05BC-4AF9-BB40-EAB9701790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48B53-6FE1-4AED-9F03-02BA22F6A9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695C7-E3E7-4710-A0AC-5FB1FDB4BA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510840" y="6179760"/>
            <a:ext cx="728676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66f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353080" y="6205680"/>
            <a:ext cx="53964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ff"/>
                </a:solidFill>
                <a:latin typeface="Arial"/>
              </a:rPr>
              <a:t>(</a:t>
            </a:r>
            <a:fld id="{B88884D7-84E4-4B1B-9257-36F0B672CA3A}" type="slidenum">
              <a:rPr b="0" lang="en-US" sz="900" spc="-1" strike="noStrike">
                <a:solidFill>
                  <a:srgbClr val="0066ff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09760" y="1398600"/>
            <a:ext cx="802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76b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6948360" y="196920"/>
            <a:ext cx="1584360" cy="6397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36680" y="257040"/>
            <a:ext cx="2047680" cy="3636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136f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515280" y="2314440"/>
            <a:ext cx="2463480" cy="1393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-6476760" y="2865600"/>
            <a:ext cx="193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93640" y="2865600"/>
            <a:ext cx="34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c4ae"/>
                </a:solidFill>
                <a:latin typeface="Estrangelo Edessa"/>
              </a:rPr>
              <a:t>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308560"/>
            <a:ext cx="9144000" cy="154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13c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755880"/>
            <a:ext cx="61722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36f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n.sopk.sk/" TargetMode="External"/><Relationship Id="rId2" Type="http://schemas.openxmlformats.org/officeDocument/2006/relationships/hyperlink" Target="http://www.indprop/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8360" y="1989000"/>
            <a:ext cx="784872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02040" y="2060640"/>
            <a:ext cx="66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5136f0"/>
                </a:solidFill>
                <a:latin typeface="Arial"/>
              </a:rPr>
              <a:t>Marketing a informácie o trhu patentov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187280" y="4365720"/>
            <a:ext cx="6767640" cy="2342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162240" y="3427560"/>
            <a:ext cx="26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27ab6"/>
                </a:solidFill>
                <a:latin typeface="Arial"/>
              </a:rPr>
              <a:t>24.8.2010, Trenčín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127D7-74CA-4197-9AA5-5CF53C4F3CF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11280" y="2133720"/>
            <a:ext cx="77724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5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informácie = kľúčový faktor v hosp. procese v 21. stor.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využitie informácií o existujúcich patentoch: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51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e5815"/>
                </a:solidFill>
                <a:latin typeface="Arial"/>
              </a:rPr>
              <a:t>najnovší technologický pokrok</a:t>
            </a:r>
            <a:endParaRPr b="0" lang="en-US" sz="1800" spc="-1" strike="noStrike">
              <a:solidFill>
                <a:srgbClr val="bc956e"/>
              </a:solidFill>
              <a:latin typeface="Arial"/>
            </a:endParaRPr>
          </a:p>
          <a:p>
            <a:pPr lvl="1" marL="801720" indent="-266760">
              <a:spcBef>
                <a:spcPts val="451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e5815"/>
                </a:solidFill>
                <a:latin typeface="Arial"/>
              </a:rPr>
              <a:t>identifikovanie budúcich partnerov</a:t>
            </a:r>
            <a:endParaRPr b="0" lang="en-US" sz="1800" spc="-1" strike="noStrike">
              <a:solidFill>
                <a:srgbClr val="bc956e"/>
              </a:solidFill>
              <a:latin typeface="Arial"/>
            </a:endParaRPr>
          </a:p>
          <a:p>
            <a:pPr lvl="1" marL="801720" indent="-266760">
              <a:spcBef>
                <a:spcPts val="451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e5815"/>
                </a:solidFill>
                <a:latin typeface="Arial"/>
              </a:rPr>
              <a:t>spoznanie inovatívnych aktivít konkurencie</a:t>
            </a:r>
            <a:endParaRPr b="0" lang="en-US" sz="1800" spc="-1" strike="noStrike">
              <a:solidFill>
                <a:srgbClr val="bc956e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0040" y="907920"/>
            <a:ext cx="788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66ff"/>
                </a:solidFill>
                <a:latin typeface="Arial"/>
              </a:rPr>
              <a:t>Význam informácií pre marketingové ciele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73CDD-FA1E-4AA9-B317-50BC3A35AF9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11280" y="198864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Pre vývoj a uvedenie na trh nového výrobku či služby je vhodné vykonať marketingový prieskum. Z organizačno- nákladového hľadiska je vhodné aby podnik vykonal prieskum patentový prieskum. Tento môže výrazne urýchliť zavedenie výrobku, či služby, zabráni vymýšľaniu vymysleného prípadne môže viesť k vstupu do partnerstva s vlastníkom myšlienky.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V každej krajine pôsobí  národná autorita napojená na európsky a svetový informačný systém: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lnSpc>
                <a:spcPct val="80000"/>
              </a:lnSpc>
              <a:spcBef>
                <a:spcPts val="400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e5815"/>
                </a:solidFill>
                <a:latin typeface="Arial"/>
              </a:rPr>
              <a:t>Svetová organizácia duševného vlastníctva (www.WIPO.int)</a:t>
            </a:r>
            <a:endParaRPr b="0" lang="en-US" sz="1600" spc="-1" strike="noStrike">
              <a:solidFill>
                <a:srgbClr val="bc956e"/>
              </a:solidFill>
              <a:latin typeface="Arial"/>
            </a:endParaRPr>
          </a:p>
          <a:p>
            <a:pPr lvl="1" marL="801720" indent="-266760">
              <a:lnSpc>
                <a:spcPct val="80000"/>
              </a:lnSpc>
              <a:spcBef>
                <a:spcPts val="400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e5815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fe5815"/>
                </a:solidFill>
                <a:latin typeface="Arial"/>
              </a:rPr>
              <a:t>Európsky patentový úrad (www.EPO.org)</a:t>
            </a:r>
            <a:endParaRPr b="0" lang="en-US" sz="1600" spc="-1" strike="noStrike">
              <a:solidFill>
                <a:srgbClr val="bc956e"/>
              </a:solidFill>
              <a:latin typeface="Arial"/>
            </a:endParaRPr>
          </a:p>
          <a:p>
            <a:pPr lvl="1" marL="801720" indent="-266760">
              <a:lnSpc>
                <a:spcPct val="80000"/>
              </a:lnSpc>
              <a:spcBef>
                <a:spcPts val="400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e5815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fe5815"/>
                </a:solidFill>
                <a:latin typeface="Arial"/>
              </a:rPr>
              <a:t>Úrad pre harmonizáciu vnútorného trhu (www.oami.europa.eu )</a:t>
            </a:r>
            <a:endParaRPr b="0" lang="en-US" sz="1600" spc="-1" strike="noStrike">
              <a:solidFill>
                <a:srgbClr val="bc956e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Národná autorita poskytuje služby a poradenstvo: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e5815"/>
                </a:solidFill>
                <a:latin typeface="Arial"/>
              </a:rPr>
              <a:t>	</a:t>
            </a:r>
            <a:r>
              <a:rPr b="0" lang="sk-SK" sz="1400" spc="-1" strike="noStrike">
                <a:solidFill>
                  <a:srgbClr val="fe5815"/>
                </a:solidFill>
                <a:latin typeface="Arial"/>
              </a:rPr>
              <a:t>- Rešeržné služby, monitoring, preddiagnostika...</a:t>
            </a:r>
            <a:endParaRPr b="0" lang="en-US" sz="1400" spc="-1" strike="noStrike">
              <a:solidFill>
                <a:srgbClr val="bc956e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Národná autorita disponuje databázami poskytujúcimi informácie o: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lnSpc>
                <a:spcPct val="80000"/>
              </a:lnSpc>
              <a:spcBef>
                <a:spcPts val="34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e5815"/>
                </a:solidFill>
                <a:latin typeface="Arial"/>
              </a:rPr>
              <a:t> </a:t>
            </a:r>
            <a:r>
              <a:rPr b="0" lang="sk-SK" sz="1400" spc="-1" strike="noStrike">
                <a:solidFill>
                  <a:srgbClr val="fe5815"/>
                </a:solidFill>
                <a:latin typeface="Arial"/>
              </a:rPr>
              <a:t>Patentoch, úžitkové vzory, dizajny</a:t>
            </a:r>
            <a:endParaRPr b="0" lang="en-US" sz="1400" spc="-1" strike="noStrike">
              <a:solidFill>
                <a:srgbClr val="bc956e"/>
              </a:solidFill>
              <a:latin typeface="Arial"/>
            </a:endParaRPr>
          </a:p>
          <a:p>
            <a:pPr lvl="1" marL="801720" indent="-266760">
              <a:lnSpc>
                <a:spcPct val="80000"/>
              </a:lnSpc>
              <a:spcBef>
                <a:spcPts val="34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e5815"/>
                </a:solidFill>
                <a:latin typeface="Arial"/>
              </a:rPr>
              <a:t>  </a:t>
            </a:r>
            <a:r>
              <a:rPr b="0" lang="sk-SK" sz="1400" spc="-1" strike="noStrike">
                <a:solidFill>
                  <a:srgbClr val="fe5815"/>
                </a:solidFill>
                <a:latin typeface="Arial"/>
              </a:rPr>
              <a:t>ochranných známkach</a:t>
            </a:r>
            <a:endParaRPr b="0" lang="en-US" sz="1400" spc="-1" strike="noStrike">
              <a:solidFill>
                <a:srgbClr val="bc956e"/>
              </a:solidFill>
              <a:latin typeface="Arial"/>
            </a:endParaRPr>
          </a:p>
          <a:p>
            <a:pPr lvl="1" marL="801720" indent="-266760">
              <a:lnSpc>
                <a:spcPct val="80000"/>
              </a:lnSpc>
              <a:spcBef>
                <a:spcPts val="34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e5815"/>
                </a:solidFill>
                <a:latin typeface="Arial"/>
              </a:rPr>
              <a:t> </a:t>
            </a:r>
            <a:r>
              <a:rPr b="0" lang="sk-SK" sz="1400" spc="-1" strike="noStrike">
                <a:solidFill>
                  <a:srgbClr val="fe5815"/>
                </a:solidFill>
                <a:latin typeface="Arial"/>
              </a:rPr>
              <a:t>dodatkových ochranných osvedčeniach, pôvodu výrobkov  a zemepisnom označení</a:t>
            </a:r>
            <a:endParaRPr b="0" lang="en-US" sz="1400" spc="-1" strike="noStrike">
              <a:solidFill>
                <a:srgbClr val="bc956e"/>
              </a:solidFill>
              <a:latin typeface="Arial"/>
            </a:endParaRPr>
          </a:p>
          <a:p>
            <a:pPr lvl="1" marL="801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bc956e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977760"/>
            <a:ext cx="788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66ff"/>
                </a:solidFill>
                <a:latin typeface="Arial"/>
              </a:rPr>
              <a:t>Sieť autorít - informácie o trhu - služby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CB34C-0A5A-4868-AD3A-6EF2AB87662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4360" y="2491920"/>
            <a:ext cx="77724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5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databázy úradu na internete – www.upv.sk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ESPACENET – sk.espacenet.com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študovňa ÚPV SR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strediská patentových informácií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kontaktné informačné miesta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0040" y="907920"/>
            <a:ext cx="788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66ff"/>
                </a:solidFill>
                <a:latin typeface="Arial"/>
              </a:rPr>
              <a:t>Patentové databázy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98C8B-5FCA-42FB-A519-424BF6EACB8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2390400"/>
            <a:ext cx="7772400" cy="33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5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e5815"/>
                </a:solidFill>
                <a:latin typeface="Arial"/>
              </a:rPr>
              <a:t>Vecne príslušný národný patentový úrad (ÚPV SR)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e5815"/>
                </a:solidFill>
                <a:latin typeface="Arial"/>
              </a:rPr>
              <a:t>Madrid Express Database (WIPO)</a:t>
            </a:r>
            <a:br>
              <a:rPr sz="1800"/>
            </a:b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- údaje o medzinárodných prihláškach ochranných známok a designáciách, ktoré prijal Medzinárodný úrad v Ženeve, ale ktoré ešte nie sú zapísané v medzinárodnom registri známok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e5815"/>
                </a:solidFill>
                <a:latin typeface="Arial"/>
              </a:rPr>
              <a:t>ROMARIN (WIPO)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e5815"/>
                </a:solidFill>
                <a:latin typeface="Arial"/>
              </a:rPr>
              <a:t>CTM-Online (OHIM)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- databáza ochranných známok Spoločenstva s účinkom na celom území Európskej únie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0040" y="907920"/>
            <a:ext cx="788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66ff"/>
                </a:solidFill>
                <a:latin typeface="Arial"/>
              </a:rPr>
              <a:t>Databázy ochranných známok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931D4-911D-4DD8-BF8F-E6264181A5B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9640" y="2390400"/>
            <a:ext cx="7772400" cy="33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5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13c59"/>
                </a:solidFill>
                <a:latin typeface="Arial"/>
              </a:rPr>
              <a:t>Nástroj pre pomoc malým a stredným podnikom, ktoré v dostatočnej miere neochraňujú svoje inovácie kvôli chýbajúcej informovanosti alebo nesprávnej podnikateľskej stratégii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Cieľom prediagnostiky je analyzovať situáciu v podniku, oboznámiť ho s možnosťami priemyselnoprávnej ochrany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Výhodná cena: bezplatne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0040" y="907920"/>
            <a:ext cx="788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66ff"/>
                </a:solidFill>
                <a:latin typeface="Arial"/>
              </a:rPr>
              <a:t>Pred diagnostika priemyselných práv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92521-E85A-4C7C-80CF-024B5B5A279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00040" y="620640"/>
            <a:ext cx="788832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66ff"/>
                </a:solidFill>
                <a:latin typeface="Arial"/>
              </a:rPr>
              <a:t>Ďakujem za pozornosť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771560"/>
            <a:ext cx="6696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9933"/>
                </a:solidFill>
                <a:uFillTx/>
                <a:latin typeface="Arial"/>
              </a:rPr>
              <a:t>http://www.eurocrafts21.eu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66ff"/>
                </a:solidFill>
                <a:latin typeface="Arial"/>
              </a:rPr>
              <a:t>Kontakt</a:t>
            </a:r>
            <a:r>
              <a:rPr b="1" lang="en-GB" sz="2000" spc="-1" strike="noStrike">
                <a:solidFill>
                  <a:srgbClr val="0066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Ing. Ján Václav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Trenčianska regionálna komora SOPK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Internet: </a:t>
            </a:r>
            <a:r>
              <a:rPr b="0" lang="sk-SK" sz="1800" spc="-1" strike="noStrike" u="sng">
                <a:solidFill>
                  <a:srgbClr val="bc956e"/>
                </a:solidFill>
                <a:uFillTx/>
                <a:latin typeface="Arial"/>
                <a:hlinkClick r:id="rId1"/>
              </a:rPr>
              <a:t>www.tn.sopk.sk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Ing. Marian Michalovský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Úrad priemyselného vlastníctva SR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Internet: </a:t>
            </a:r>
            <a:r>
              <a:rPr b="0" lang="sk-SK" sz="1600" spc="-1" strike="noStrike" u="sng">
                <a:solidFill>
                  <a:srgbClr val="bc956e"/>
                </a:solidFill>
                <a:uFillTx/>
                <a:latin typeface="Arial"/>
                <a:hlinkClick r:id="rId2"/>
              </a:rPr>
              <a:t>www.indprop.gov.sk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85720" y="1878120"/>
            <a:ext cx="2313000" cy="1538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5148360" y="3645000"/>
            <a:ext cx="2628720" cy="113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5148360" y="5084640"/>
          <a:ext cx="1173240" cy="1173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48360" y="5084640"/>
                    <a:ext cx="117324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994B5-FD65-40D8-9E2A-409E18FC0E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4:29:03Z</dcterms:created>
  <dc:creator>Christopher Manstein</dc:creator>
  <dc:description/>
  <dc:language>en-US</dc:language>
  <cp:lastModifiedBy>Vaclav</cp:lastModifiedBy>
  <dcterms:modified xsi:type="dcterms:W3CDTF">2010-09-26T11:51:02Z</dcterms:modified>
  <cp:revision>788</cp:revision>
  <dc:subject/>
  <dc:title>Euro Crafts 21</dc:title>
</cp:coreProperties>
</file>