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4B7E-84B8-4F98-8E2F-8AEAA93DC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CDD8-EA7D-4244-8060-0345AF4C2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5992-D7B5-4055-9ADD-DD2AA2732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7C62-BA45-44C0-BAD8-B616E719FF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A3AD-557B-4580-B895-52CC55A1F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FC12-40DB-4C5E-9691-C9BD159C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0C9E-D1E2-427B-8F35-5E11CC383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7F76-D8CC-4B16-BDE9-C0A632EAA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CFE0-7392-4D7E-B669-6BEABF830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9BC5-7F6B-4385-8379-FA4AD7030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41E0-3F2A-4640-A820-8D49D8957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A072-A180-458C-AA6D-8B8662FF3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B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-Mix Tools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DBE4-8C90-4869-B104-4D76E44AAB9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26920" y="3284640"/>
            <a:ext cx="7777440" cy="27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NÁSTROJE MARKETINGOVÉHO MIXU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najmä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Komunikačná politik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podpora predaj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617920" y="214164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9EBF-CF9A-497F-9FB9-1C3E421F98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ástroje komunikačnej politi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pory predaj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eklam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zťahy s verejnosťou P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o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pora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sobný predaj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D9FB-DE00-4144-8B13-2C007458B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27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eklam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stredno- až dlhodobý rast predaja a rast povedomia o značk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existujúci a potenciálni zákazníci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s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lužb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tlačové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médi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eklamné tričká, transparenty, plagát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ozhlasové (lokálne) 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filmové spot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DAA6-9731-4191-8BF4-A08742422B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zťahy s verejnosťou - P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vytvorenie nových trhových kanálov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upevnenie a zlepšenie imidžu podniku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ľová skupina: verejnosť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podnik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xamples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tlačové zlož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ozhovory a prednáš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publi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káci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semin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ár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haritatívne akci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8081-A88B-4410-A50C-F12B8A0AD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pora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ý rast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imárne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xis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tujúc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lužb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e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tombol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arčeky, podujatia, podnikové výstavy, obchodovanie použitého tovaru, zvýhodnené balíčky 2 za 1 cenu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47EA-4BBE-4A70-A1C1-3432ABB664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826920" y="1484280"/>
            <a:ext cx="7545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sobný predaj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esviedčan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ast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imárne existujúci zákazníci (jednotlivc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lužb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edajné prezentác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stavy a podujat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35DD-7E3E-47E0-9CDB-2D12D504F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4BD5-9819-48D8-B570-893F76010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EB28-180C-4B47-9A04-2035F0669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Kohoutova</cp:lastModifiedBy>
  <cp:lastPrinted>2005-02-10T15:49:31Z</cp:lastPrinted>
  <dcterms:modified xsi:type="dcterms:W3CDTF">2010-09-09T07:56:15Z</dcterms:modified>
  <cp:revision>85</cp:revision>
  <dc:subject/>
  <dc:title>Kein Folientitel</dc:title>
</cp:coreProperties>
</file>