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CA548-777F-48CE-BAB4-4B3164268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6958E-F3EA-47CA-8207-FFCAC3F08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59CFA-680D-4AA3-9794-2803C901F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D802C-C832-4E2C-A366-5B22BDA9B3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9CC2D-1365-4C2C-8193-D447B22616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0CA90-2EBE-46EA-A984-D8FFB8513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325B6-B07F-4BF3-9843-6D80647DA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7EF2-530F-475D-B41E-C75F7B781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EEFB5-BD90-4943-A979-A3EC0E0D4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42EF7-203F-4EFD-B0CB-0B7E97276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286D0-561F-4CB2-8B9B-94025080D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DEEC7-30A2-401E-B8A4-22648AB23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90680" y="411120"/>
            <a:ext cx="2757240" cy="488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S4-B1: Powerpoint-Presentation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»Marketing-Mix Tools«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957A-2B5A-4EDC-9101-12F4E1A63894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826920" y="3284640"/>
            <a:ext cx="7777440" cy="27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k-SK" sz="3600" spc="-1" strike="noStrike">
                <a:solidFill>
                  <a:srgbClr val="808080"/>
                </a:solidFill>
                <a:latin typeface="Arial"/>
              </a:rPr>
              <a:t>NÁSTROJE MARKETINGOVÉHO MIXU 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0" lang="sk-SK" sz="1800" spc="-1" strike="noStrike">
                <a:solidFill>
                  <a:srgbClr val="808080"/>
                </a:solidFill>
                <a:latin typeface="Arial"/>
              </a:rPr>
              <a:t>najmä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808080"/>
                </a:solidFill>
                <a:latin typeface="Arial"/>
              </a:rPr>
              <a:t>Komunikačná politika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 a </a:t>
            </a:r>
            <a:r>
              <a:rPr b="0" lang="sk-SK" sz="1800" spc="-1" strike="noStrike">
                <a:solidFill>
                  <a:srgbClr val="808080"/>
                </a:solidFill>
                <a:latin typeface="Arial"/>
              </a:rPr>
              <a:t>podpora predaja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5970" t="25469" r="24397" b="51808"/>
          <a:stretch/>
        </p:blipFill>
        <p:spPr>
          <a:xfrm>
            <a:off x="2617920" y="2141640"/>
            <a:ext cx="4114800" cy="135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32AA4-9791-4122-827A-EF68B81A64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413000"/>
            <a:ext cx="7777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Nástroje komunikačnej politiky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/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Podpory predaj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2340000" y="2781360"/>
            <a:ext cx="525636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Reklama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Vzťahy s verejnosťou PR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Po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dpora predaja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Osobný predaj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A2408-A71E-46D6-8B9F-25FCA988D7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1341360"/>
            <a:ext cx="7272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Reklama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90760" y="2271600"/>
            <a:ext cx="668952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Ciele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stredno- až dlhodobý rast predaja a rast povedomia o značke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Cieľová skupina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existujúci a potenciálni zákazníci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Obsah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výrobky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/s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lužby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Príklady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tlačové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média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reklamné tričká, transparenty, plagáty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rozhlasové (lokálne) a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filmové spoty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D7AC3-F6E0-4B17-B5C5-E4D2DA5B08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"/>
          <p:cNvSpPr/>
          <p:nvPr/>
        </p:nvSpPr>
        <p:spPr>
          <a:xfrm>
            <a:off x="914400" y="1341360"/>
            <a:ext cx="7545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Vzťahy s verejnosťou - PR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1476360" y="1916280"/>
            <a:ext cx="6851520" cy="38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Ciele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vytvorenie nových trhových kanálov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upevnenie a zlepšenie imidžu podniku 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Cieľová skupina: verejnosť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Obsah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podnik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xamples: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tlačové zložky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rozhovory a prednášky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publi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kácie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semin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áre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charitatívne akcie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atď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 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FEA05-7E0A-432B-B3F8-820E296D1C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914400" y="1341360"/>
            <a:ext cx="7545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Podpora predaja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447920" y="2133720"/>
            <a:ext cx="6851520" cy="318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Ciel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strednodobý rast predaja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Cieľová skupina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primárne 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exis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tujúci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zákazníci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Obsah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výrobky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/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služby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Príklady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cena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tomboly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darčeky, podujatia, podnikové výstavy, obchodovanie použitého tovaru, zvýhodnené balíčky 2 za 1 cenu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DAD89-1FB8-4A4F-92A4-9F53D9404B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826920" y="1484280"/>
            <a:ext cx="7545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Osobný predaj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523880" y="2176560"/>
            <a:ext cx="685188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Ciel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presviedčani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a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rast predaja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Cieľová skupina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primárne existujúci zákazníci (jednotlivci)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Obsah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výrobky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/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služby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Príklady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predajné prezentáci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výstavy a podujatia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atď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3781E-5C8B-404F-A4A1-642B523001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95360" y="1303200"/>
            <a:ext cx="80359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www.eurocrafts21.eu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ento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j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f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ancovaný s podporou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Eur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ó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p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skej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omis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i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. 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áto publikácia odráža len názory autora a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omis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ia nepreberá zodpovednosť za akékoľvek použitie v nej obsiahnutých informácií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Leonardo da Vinci 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 Euro Crafts 21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sa realizuje pod správou pléna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– s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p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o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ločnosť pre komplexne udržateľný rozvoj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a Factor 10 Institute Austria.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Cieľom toht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u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je vytvoriť významnú pridanú hodnotu v oblasti odborného vzdelávania v Rakúsku a zúčastnených partnerských krajinách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(F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ín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Nemec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, Slov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en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Španiel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a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Maďar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).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Toto bude dosiahnuté prostredníctvom transféru inovácií z už ukončených pilotných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ov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–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s dôrazom na rozvoj a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es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ovani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celkovej kvalifikáci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a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 poradenský koncept zameraný na management udržateľného rastu v odvetví živností v regióne severného Porýnia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es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fálska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(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Nemec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C5AC2-E8D1-4B29-9632-2499DDBFEF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808080"/>
                </a:solidFill>
                <a:latin typeface="Arial"/>
              </a:rPr>
              <a:t>Zdroj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Ingo Rauhut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de-DE" sz="1400" spc="-1" strike="noStrike">
                <a:solidFill>
                  <a:srgbClr val="808080"/>
                </a:solidFill>
                <a:latin typeface="Arial"/>
              </a:rPr>
              <a:t>Westdeutscher Handwerkskammertag (Ed.): CD-ROM: 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Manažment udržateľného rastu v odvetví živností. Príručka implementácie kvalifikačného  a konzultačného konceptu pre poradcov a vyučujúcich pre sektor remesiel. Výsledky z pilotného projektu</a:t>
            </a:r>
            <a:r>
              <a:rPr b="0" i="1" lang="de-AT" sz="1400" spc="-1" strike="noStrike">
                <a:solidFill>
                  <a:srgbClr val="808080"/>
                </a:solidFill>
                <a:latin typeface="Arial"/>
              </a:rPr>
              <a:t>, Düsseldorf (Westdeutscher Handwerkskammertag (Hrsg.): CD-ROM: Nachhaltiges Wirtschaften in Handwerksbetrieben. Eine Handreichung zur Durchführung eines Qualifizierungs- und Beratungskonzeptes für Betriebsberater/-innen und Dozenten/-innen im Handwerk. 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Ergebnisse aus einem Modellversuch, Düsseldorf).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370F7-F839-4B0B-877B-32BA7724C1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Kohoutova</cp:lastModifiedBy>
  <cp:lastPrinted>2005-02-10T15:49:31Z</cp:lastPrinted>
  <dcterms:modified xsi:type="dcterms:W3CDTF">2010-09-09T07:56:15Z</dcterms:modified>
  <cp:revision>85</cp:revision>
  <dc:subject/>
  <dc:title>Kein Folientitel</dc:title>
</cp:coreProperties>
</file>