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0F5A0-4CD3-49AD-8230-C2A50065F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CD2F5-B4FA-4504-A908-5FD558915F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DEA51-3F67-4C6B-B580-D972372BB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20523-3E49-4702-984E-F4966FB413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9AAB6-915F-49AE-AB87-461CDD41EE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73C3E-AF26-4BE9-BA20-2A794CF51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A3641-880A-4CD3-9E35-78893AB2D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A5848-0DDC-4BD0-927F-76F1A931B7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319FE-0493-4698-84ED-F88EE02C6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02D75-0D74-4C1A-A112-354E44E2B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348A7-78B1-47F1-B7EF-E18A51C73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74751-614D-44C0-97D4-6300E3523B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90680" y="411120"/>
            <a:ext cx="2757240" cy="4888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S4-C1: Powerpoint-Presentation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»Marketing Efficiency Check«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6F1A-EDBF-4B14-88B8-3602AED4D023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1187280" y="3357720"/>
            <a:ext cx="739152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808080"/>
                </a:solidFill>
                <a:latin typeface="Arial"/>
              </a:rPr>
              <a:t>MOŽNOSTI SLEDOVANIA MARKETINGOVEJ VÝKONNOSTI</a:t>
            </a:r>
            <a:endParaRPr b="0" lang="en-US" sz="36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5970" t="25469" r="24397" b="51808"/>
          <a:stretch/>
        </p:blipFill>
        <p:spPr>
          <a:xfrm>
            <a:off x="2514600" y="2017800"/>
            <a:ext cx="4114800" cy="135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828D0-5BEE-4FA0-9C2D-811A515BA1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8"/>
          <p:cNvSpPr/>
          <p:nvPr/>
        </p:nvSpPr>
        <p:spPr>
          <a:xfrm>
            <a:off x="1042920" y="2133720"/>
            <a:ext cx="71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600" spc="-1" strike="noStrike">
                <a:solidFill>
                  <a:srgbClr val="808080"/>
                </a:solidFill>
                <a:latin typeface="Arial"/>
              </a:rPr>
              <a:t>Je potrebné vždy monitorovať m</a:t>
            </a:r>
            <a:r>
              <a:rPr b="1" i="1" lang="en-GB" sz="36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rketing</a:t>
            </a:r>
            <a:r>
              <a:rPr b="1" i="1" lang="sk-SK" sz="3600" spc="-1" strike="noStrike">
                <a:solidFill>
                  <a:srgbClr val="808080"/>
                </a:solidFill>
                <a:latin typeface="Arial"/>
              </a:rPr>
              <a:t>ové</a:t>
            </a:r>
            <a:r>
              <a:rPr b="1" i="1" lang="en-GB" sz="36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i="1" lang="sk-SK" sz="3600" spc="-1" strike="noStrike">
                <a:solidFill>
                  <a:srgbClr val="808080"/>
                </a:solidFill>
                <a:latin typeface="Arial"/>
              </a:rPr>
              <a:t>opatrenia</a:t>
            </a:r>
            <a:r>
              <a:rPr b="1" i="1" lang="en-GB" sz="36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i="1" lang="sk-SK" sz="3600" spc="-1" strike="noStrike">
                <a:solidFill>
                  <a:srgbClr val="808080"/>
                </a:solidFill>
                <a:latin typeface="Arial"/>
              </a:rPr>
              <a:t>s cieľom overiť ich účinnosť</a:t>
            </a:r>
            <a:r>
              <a:rPr b="1" i="1" lang="en-GB" sz="36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 </a:t>
            </a:r>
            <a:endParaRPr b="0" lang="en-US" sz="36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8239C-65F2-4E74-B2D4-A175FC99FD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914400" y="1268280"/>
            <a:ext cx="7545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80"/>
                </a:solidFill>
                <a:latin typeface="Arial"/>
              </a:rPr>
              <a:t>Sledovanie obratu</a:t>
            </a:r>
            <a:endParaRPr b="0" lang="en-US" sz="28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1476360" y="1916280"/>
            <a:ext cx="6851520" cy="38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808080"/>
                </a:solidFill>
                <a:latin typeface="Arial"/>
              </a:rPr>
              <a:t>Porovnanie dosiahnutého obratu s predchádzajúcimi obdobiami ako i s vlastnými očakávaniami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(=marketing</a:t>
            </a:r>
            <a:r>
              <a:rPr b="0" lang="sk-SK" sz="2000" spc="-1" strike="noStrike">
                <a:solidFill>
                  <a:srgbClr val="808080"/>
                </a:solidFill>
                <a:latin typeface="Arial"/>
              </a:rPr>
              <a:t>ovým cieľom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)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808080"/>
                </a:solidFill>
                <a:latin typeface="Arial"/>
              </a:rPr>
              <a:t>V prípade zápornej odchýlky je nutné sa spýtať, prečo tomu tak je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 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808080"/>
                </a:solidFill>
                <a:latin typeface="Arial"/>
              </a:rPr>
              <a:t>Sledovanie obratu sa môže uskutočniť rýchlo a za relatívne nízku cenu, pretože požadované údaje sú dostupné vnútri samotnej spoločnosti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90EC2-D826-43E4-94A4-6701198911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3"/>
          <p:cNvSpPr/>
          <p:nvPr/>
        </p:nvSpPr>
        <p:spPr>
          <a:xfrm>
            <a:off x="914400" y="1125360"/>
            <a:ext cx="7545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de-DE" sz="2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S</a:t>
            </a:r>
            <a:r>
              <a:rPr b="1" lang="sk-SK" sz="2800" spc="-1" strike="noStrike">
                <a:solidFill>
                  <a:srgbClr val="808080"/>
                </a:solidFill>
                <a:latin typeface="Arial"/>
              </a:rPr>
              <a:t>ledovanie podielu na trhu</a:t>
            </a:r>
            <a:r>
              <a:rPr b="1" i="1" lang="de-DE" sz="3600" spc="-1" strike="noStrike">
                <a:solidFill>
                  <a:srgbClr val="013c5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1476360" y="1916280"/>
            <a:ext cx="691200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808080"/>
                </a:solidFill>
                <a:latin typeface="Arial"/>
              </a:rPr>
              <a:t>Porovnanie dosiahnutého tržného podielu s predchádzajúcimi ako i očakávanými hodnotami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(=marketing</a:t>
            </a:r>
            <a:r>
              <a:rPr b="0" lang="sk-SK" sz="2000" spc="-1" strike="noStrike">
                <a:solidFill>
                  <a:srgbClr val="808080"/>
                </a:solidFill>
                <a:latin typeface="Arial"/>
              </a:rPr>
              <a:t>ovým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0" lang="sk-SK" sz="2000" spc="-1" strike="noStrike">
                <a:solidFill>
                  <a:srgbClr val="808080"/>
                </a:solidFill>
                <a:latin typeface="Arial"/>
              </a:rPr>
              <a:t>cieľom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)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808080"/>
                </a:solidFill>
                <a:latin typeface="Arial"/>
              </a:rPr>
              <a:t>V prípade zápornej odchýlky je potrebné sa spýtať, prečo tomu tak je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808080"/>
                </a:solidFill>
                <a:latin typeface="Arial"/>
              </a:rPr>
              <a:t>Výhoda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pre</a:t>
            </a:r>
            <a:r>
              <a:rPr b="0" lang="sk-SK" sz="2000" spc="-1" strike="noStrike">
                <a:solidFill>
                  <a:srgbClr val="808080"/>
                </a:solidFill>
                <a:latin typeface="Arial"/>
              </a:rPr>
              <a:t>z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nt</a:t>
            </a:r>
            <a:r>
              <a:rPr b="0" lang="sk-SK" sz="2000" spc="-1" strike="noStrike">
                <a:solidFill>
                  <a:srgbClr val="808080"/>
                </a:solidFill>
                <a:latin typeface="Arial"/>
              </a:rPr>
              <a:t>ácia konkurencieschopnosti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0" lang="sk-SK" sz="2000" spc="-1" strike="noStrike">
                <a:solidFill>
                  <a:srgbClr val="808080"/>
                </a:solidFill>
                <a:latin typeface="Arial"/>
              </a:rPr>
              <a:t>spoločnosti vo vzťahu k jej konkurentom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808080"/>
                </a:solidFill>
                <a:latin typeface="Arial"/>
              </a:rPr>
              <a:t>Nevýhoda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0" lang="sk-SK" sz="2000" spc="-1" strike="noStrike">
                <a:solidFill>
                  <a:srgbClr val="808080"/>
                </a:solidFill>
                <a:latin typeface="Arial"/>
              </a:rPr>
              <a:t>údaje potrebné na takéto porovnávania musia byť získané externe.</a:t>
            </a:r>
            <a:r>
              <a:rPr b="0" lang="en-GB" sz="2400" spc="-1" strike="noStrike">
                <a:solidFill>
                  <a:srgbClr val="013c5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13c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A8E45-F619-4F7E-9D84-9415D53986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914400" y="1268280"/>
            <a:ext cx="79437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80"/>
                </a:solidFill>
                <a:latin typeface="Arial"/>
              </a:rPr>
              <a:t>Pozornosť treba venovať</a:t>
            </a:r>
            <a:r>
              <a:rPr b="1" lang="de-DE" sz="2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..</a:t>
            </a:r>
            <a:endParaRPr b="0" lang="en-US" sz="28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476360" y="1916280"/>
            <a:ext cx="6840720" cy="31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808080"/>
                </a:solidFill>
                <a:latin typeface="Arial"/>
              </a:rPr>
              <a:t>Konzultácie časovo a priemyselne špecifických porovnávaní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S</a:t>
            </a:r>
            <a:r>
              <a:rPr b="0" lang="sk-SK" sz="2400" spc="-1" strike="noStrike">
                <a:solidFill>
                  <a:srgbClr val="808080"/>
                </a:solidFill>
                <a:latin typeface="Arial"/>
              </a:rPr>
              <a:t>tanovéné ciele by mali byť realistické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808080"/>
                </a:solidFill>
                <a:latin typeface="Arial"/>
              </a:rPr>
              <a:t>Počiatočné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0" lang="sk-SK" sz="2400" spc="-1" strike="noStrike">
                <a:solidFill>
                  <a:srgbClr val="808080"/>
                </a:solidFill>
                <a:latin typeface="Arial"/>
              </a:rPr>
              <a:t>fázy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mus</a:t>
            </a:r>
            <a:r>
              <a:rPr b="0" lang="sk-SK" sz="2400" spc="-1" strike="noStrike">
                <a:solidFill>
                  <a:srgbClr val="808080"/>
                </a:solidFill>
                <a:latin typeface="Arial"/>
              </a:rPr>
              <a:t>ia byť zahrnuté vo výpočtoch.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808080"/>
                </a:solidFill>
                <a:latin typeface="Arial"/>
              </a:rPr>
              <a:t>Pri porovnávaní je nutné získané čísla aj interpretovať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7AD76-61D7-4A08-AF34-463A98F61E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5360" y="1303200"/>
            <a:ext cx="80359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www.eurocrafts21.eu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ento 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proje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je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f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i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ancovaný s podporou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Eur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ó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p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skej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omis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ie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. 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áto publikácia odráža len názory autora a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omis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ia nepreberá zodpovednosť za akékoľvek použitie v nej obsiahnutých informácií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Leonardo da Vinci proje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 Euro Crafts 21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sa realizuje pod správou pléna 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– s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p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o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ločnosť pre komplexne udržateľný rozvoj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a Factor 10 Institute Austria.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Cieľom toht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proje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u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je vytvoriť významnú pridanú hodnotu v oblasti odborného vzdelávania v Rakúsku a zúčastnených partnerských krajinách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(F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íns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Nemec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, Slov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ens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Španiels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a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Maďars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).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Toto bude dosiahnuté prostredníctvom transféru inovácií z už ukončených pilotných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proje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ov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–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s dôrazom na rozvoj a 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es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ovanie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celkovej kvalifikácie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a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 poradenský koncept zameraný na management udržateľného rastu v odvetví živností v regióne severného Porýnia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V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es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fálska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(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Nemec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A780F-39AA-4951-B9AD-D1489929F0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808080"/>
                </a:solidFill>
                <a:latin typeface="Arial"/>
              </a:rPr>
              <a:t>Zdroj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Ingo Rauhut</a:t>
            </a: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: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de-DE" sz="1400" spc="-1" strike="noStrike">
                <a:solidFill>
                  <a:srgbClr val="808080"/>
                </a:solidFill>
                <a:latin typeface="Arial"/>
              </a:rPr>
              <a:t>Westdeutscher Handwerkskammertag (Ed.): CD-ROM: </a:t>
            </a: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Manažment udržateľného rastu v odvetví živností. Príručka implementácie kvalifikačného  a konzultačného konceptu pre poradcov a vyučujúcich pre sektor remesiel. Výsledky z pilotného projektu</a:t>
            </a:r>
            <a:r>
              <a:rPr b="0" i="1" lang="de-AT" sz="1400" spc="-1" strike="noStrike">
                <a:solidFill>
                  <a:srgbClr val="808080"/>
                </a:solidFill>
                <a:latin typeface="Arial"/>
              </a:rPr>
              <a:t>, Düsseldorf (Westdeutscher Handwerkskammertag (Hrsg.): CD-ROM: Nachhaltiges Wirtschaften in Handwerksbetrieben. Eine Handreichung zur Durchführung eines Qualifizierungs- und Beratungskonzeptes für Betriebsberater/-innen und Dozenten/-innen im Handwerk. 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Ergebnisse aus einem Modellversuch, Düsseldorf).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BA8F8-7424-412D-887A-64778560B6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Kohoutova</cp:lastModifiedBy>
  <cp:lastPrinted>2005-02-10T15:49:31Z</cp:lastPrinted>
  <dcterms:modified xsi:type="dcterms:W3CDTF">2010-09-09T08:29:51Z</dcterms:modified>
  <cp:revision>95</cp:revision>
  <dc:subject/>
  <dc:title>Kein Folientitel</dc:title>
</cp:coreProperties>
</file>