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EFFF-6C55-4E3A-972D-659E25C2A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071A-867E-4B87-ACFF-3A7FB1903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9F81-F390-470C-BDFC-270E04F1D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B73C-F68D-4787-8AC4-770E58647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1BF9-92F9-4797-AAF3-BD160A2A12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B536-4D91-493B-A500-0048A3920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8CFB-DAB2-4548-9EB2-9FF2BDBC0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22F4-5756-4EA8-A014-3C1A2807E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DE70A-FAE2-4663-813F-DAD58FEC2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BD01D-B6A2-46DD-B609-43573ECCD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2060-4F03-44ED-B320-F11DB0421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A0066-2608-48DA-9E3E-D46088864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ACFD-07DB-42DE-956E-17A73F975AB0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PROCES NEUSTÁLEHO ZLEPŠOVANIA  CIP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8 – A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13c59"/>
                </a:solidFill>
                <a:latin typeface="Arial"/>
              </a:rPr>
              <a:t>Obr. CIP (Kostka/Kostka, str.18)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1413000"/>
            <a:ext cx="7848720" cy="2669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lytvanie a jeho znižovanie je stredom záujmu CIP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Za plytvanie sa považuje všetko,  čo bezprostredne neprispieva k tvorbe hodnôt výrobku alebo služby určenej na odbyt, alebo náklady na ne rastú bez vyhliadky primerané zvýšenie výnosov.</a:t>
            </a:r>
            <a:r>
              <a:rPr b="0" lang="sk-SK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88040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013c59"/>
                </a:solidFill>
                <a:latin typeface="Verdana"/>
              </a:rPr>
              <a:t>Zásady CIP</a:t>
            </a:r>
            <a:endParaRPr b="0" lang="en-US" sz="3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lepšovanie a trvale udržateľný rozvoj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amestnancov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procesy a výsledk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kvalit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zákazníkov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ranie na prehľadnosť a fakt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13c59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67640" y="51530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13c59"/>
                </a:solidFill>
                <a:latin typeface="Arial"/>
              </a:rPr>
              <a:t>Obrázok s odvolávkou na Kostka/Kostka S. 22, Kopp 2000.</a:t>
            </a:r>
            <a:r>
              <a:rPr b="0" lang="cs-CZ" sz="22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2535120"/>
            <a:ext cx="7705800" cy="230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Prvou silou je robotník, ktorý robí presne to, čo mu bolo povedané, a neodporuje. Frederick W. Taylor (1919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Verdana"/>
              </a:rPr>
              <a:t>Frederick W. Taylor (1919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013c59"/>
                </a:solidFill>
                <a:latin typeface="Verdana"/>
              </a:rPr>
              <a:t>Vtedy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…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… </a:t>
            </a:r>
            <a:r>
              <a:rPr b="1" i="1" lang="sk-SK" sz="3600" spc="-1" strike="noStrike">
                <a:solidFill>
                  <a:srgbClr val="013c59"/>
                </a:solidFill>
                <a:latin typeface="Verdana"/>
              </a:rPr>
              <a:t>a dnes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2060640"/>
            <a:ext cx="7345440" cy="39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majú podstatne vyšší stupeň vzdelania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chcú spoluvytvárať svoju prácu a pracovné prostredie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amestnanci chcú zlepšovať kvalitu svojej práce, aby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i poistili stoje pracovné miesto a večer odchádzali domov spokojnejší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Základy CIP</a:t>
            </a:r>
            <a:r>
              <a:rPr b="0" lang="cs-CZ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relší obraz človeka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Každý zamestnanec je odborníkom vo svojej práci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Pre podporu zainteresovanosti zamestnancov im treba dať právomoci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tanovenie úloh a akceptovanie riešenia problémov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Jednanie zamerané na procesy.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67640" y="50133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9079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13c59"/>
                </a:solidFill>
                <a:latin typeface="Verdana"/>
              </a:rPr>
              <a:t>Hlavné smery CIP pre konanie zamerané na proces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344680"/>
            <a:ext cx="734544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cieľavedomá práca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jednať na mieste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vítať problémy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hovoriť v dátach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ovládnuť procesy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zlepšovať a prijímať,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spolupracovať.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67640" y="52974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Zovincova</cp:lastModifiedBy>
  <cp:lastPrinted>2005-02-10T15:49:31Z</cp:lastPrinted>
  <dcterms:modified xsi:type="dcterms:W3CDTF">2010-10-01T07:22:54Z</dcterms:modified>
  <cp:revision>108</cp:revision>
  <dc:subject/>
  <dc:title>Kein Folientitel</dc:title>
</cp:coreProperties>
</file>