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4AFE7-463C-4FAB-BDC7-C114B122A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BA970-332F-449B-A213-55C6E5FD6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CDEBE-5580-4B2B-96BF-407DBDA7E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8A0C6-3990-4AB9-85FA-39E0451C59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08103-B82B-4A02-A784-C2F7DE4546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B416B-3865-4AFA-AF83-23B30CDD1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380C9-52AC-4242-9D46-858C929AB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FD327-28CA-4FED-98AA-7417E691B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E796F-2E17-421A-968A-33AB08614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BB698-F486-4203-A39D-AA3C80982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26CF8-FE34-4586-B8FC-60D3BC86B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B2910-7D33-4871-97D1-C2D909971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90680" y="411120"/>
            <a:ext cx="2757240" cy="4888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S4-A1: PowerPoint-Presentation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“Marketing goals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F0D0-7FD5-4CA4-B704-350673D6B113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116000" y="3500280"/>
            <a:ext cx="73915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808080"/>
                </a:solidFill>
                <a:latin typeface="Arial"/>
              </a:rPr>
              <a:t>PROCES NEUSTÁLEHO ZLEPŠOVANIA  CIP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Modul S</a:t>
            </a:r>
            <a:r>
              <a:rPr b="0" lang="sk-SK" sz="1800" spc="-1" strike="noStrike">
                <a:solidFill>
                  <a:srgbClr val="808080"/>
                </a:solidFill>
                <a:latin typeface="Arial"/>
              </a:rPr>
              <a:t>8 – A1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5985" t="25469" r="24397" b="51808"/>
          <a:stretch/>
        </p:blipFill>
        <p:spPr>
          <a:xfrm>
            <a:off x="2690640" y="2017800"/>
            <a:ext cx="41133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13c59"/>
                </a:solidFill>
                <a:latin typeface="Arial"/>
              </a:rPr>
              <a:t>Obr. CIP (Kostka/Kostka, str.18)</a:t>
            </a:r>
            <a:r>
              <a:rPr b="0" lang="cs-CZ" sz="22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16000" y="1413000"/>
            <a:ext cx="7848720" cy="2669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13c59"/>
                </a:solidFill>
                <a:latin typeface="Verdana"/>
              </a:rPr>
              <a:t>Plytvanie a jeho znižovanie je stredom záujmu CIP.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13c59"/>
                </a:solidFill>
                <a:latin typeface="Verdana"/>
              </a:rPr>
              <a:t>Za plytvanie sa považuje všetko,  čo bezprostredne neprispieva k tvorbe hodnôt výrobku alebo služby určenej na odbyt, alebo náklady na ne rastú bez vyhliadky primerané zvýšenie výnosov.</a:t>
            </a:r>
            <a:r>
              <a:rPr b="0" lang="sk-SK" sz="2400" spc="-1" strike="noStrike">
                <a:solidFill>
                  <a:srgbClr val="013c5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880400" y="566100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126828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013c59"/>
                </a:solidFill>
                <a:latin typeface="Verdana"/>
              </a:rPr>
              <a:t>Zásady CIP</a:t>
            </a:r>
            <a:endParaRPr b="0" lang="en-US" sz="3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2060640"/>
            <a:ext cx="7345440" cy="3384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Zameranie na zlepšovanie a trvale udržateľný rozvoj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Zameranie na zamestnancov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Zameranie na procesy a výsledky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Zameranie na kvalitu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Zameranie na zákazníkov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Zameranie na prehľadnosť a fakty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13c59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67640" y="515304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13c59"/>
                </a:solidFill>
                <a:latin typeface="Arial"/>
              </a:rPr>
              <a:t>Obrázok s odvolávkou na Kostka/Kostka S. 22, Kopp 2000.</a:t>
            </a:r>
            <a:r>
              <a:rPr b="0" lang="cs-CZ" sz="22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87280" y="2535120"/>
            <a:ext cx="7705800" cy="2303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13c59"/>
                </a:solidFill>
                <a:latin typeface="Verdana"/>
              </a:rPr>
              <a:t>Prvou silou je robotník, ktorý robí presne to, čo mu bolo povedané, a neodporuje. Frederick W. Taylor (1919)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Verdana"/>
              </a:rPr>
              <a:t>Frederick W. Taylor (1919)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1268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013c59"/>
                </a:solidFill>
                <a:latin typeface="Verdana"/>
              </a:rPr>
              <a:t>Vtedy</a:t>
            </a:r>
            <a:r>
              <a:rPr b="1" i="1" lang="de-DE" sz="3600" spc="-1" strike="noStrike">
                <a:solidFill>
                  <a:srgbClr val="013c59"/>
                </a:solidFill>
                <a:latin typeface="Verdana"/>
              </a:rPr>
              <a:t>…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16000" y="1268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13c59"/>
                </a:solidFill>
                <a:latin typeface="Verdana"/>
              </a:rPr>
              <a:t>… </a:t>
            </a:r>
            <a:r>
              <a:rPr b="1" i="1" lang="sk-SK" sz="3600" spc="-1" strike="noStrike">
                <a:solidFill>
                  <a:srgbClr val="013c59"/>
                </a:solidFill>
                <a:latin typeface="Verdana"/>
              </a:rPr>
              <a:t>a dnes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2060640"/>
            <a:ext cx="7345440" cy="396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Zamestnanci majú podstatne vyšší stupeň vzdelania.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Zamestnanci chcú spoluvytvárať svoju prácu a pracovné prostredie.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Zamestnanci chcú zlepšovať kvalitu svojej práce, aby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si poistili stoje pracovné miesto a večer odchádzali domov spokojnejší.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67640" y="566100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16000" y="12682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13c59"/>
                </a:solidFill>
                <a:latin typeface="Verdana"/>
              </a:rPr>
              <a:t>Základy CIP</a:t>
            </a:r>
            <a:r>
              <a:rPr b="0" lang="cs-CZ" sz="2400" spc="-1" strike="noStrike">
                <a:solidFill>
                  <a:srgbClr val="013c5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2060640"/>
            <a:ext cx="7345440" cy="3384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Zrelší obraz človeka.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Každý zamestnanec je odborníkom vo svojej práci.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Pre podporu zainteresovanosti zamestnancov im treba dať právomoci.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Stanovenie úloh a akceptovanie riešenia problémov.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Jednanie zamerané na procesy.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67640" y="501336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16000" y="9079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13c59"/>
                </a:solidFill>
                <a:latin typeface="Verdana"/>
              </a:rPr>
              <a:t>Hlavné smery CIP pre konanie zamerané na procesy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2344680"/>
            <a:ext cx="7345440" cy="338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cieľavedomá práca,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jednať na mieste,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vítať problémy,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hovoriť v dátach,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ovládnuť procesy,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zlepšovať a prijímať,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spolupracovať.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67640" y="529740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Zovincova</cp:lastModifiedBy>
  <cp:lastPrinted>2005-02-10T15:49:31Z</cp:lastPrinted>
  <dcterms:modified xsi:type="dcterms:W3CDTF">2010-10-01T07:22:54Z</dcterms:modified>
  <cp:revision>108</cp:revision>
  <dc:subject/>
  <dc:title>Kein Folientitel</dc:title>
</cp:coreProperties>
</file>