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A3E98-364D-4E6F-B3B2-F926B3E2D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BCEA9-1C24-4F67-917B-691F98BDE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7946-DEB7-4AE2-BD6A-5AC79B690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CD1F-8803-4587-9AD8-F943F08BB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BFBA-9791-44DE-9C8B-C1D8E0E5A4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35613-CE1E-457E-B20B-B2FB72475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E8A0-FA2F-4564-B261-943F0B0BC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7906-CBE3-4888-8813-11767D6C8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9DAB-CF8B-487E-80E0-53274A0D3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BF79-F3CE-44CB-9296-BF0B38E40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71D5-ABFD-4C31-A8DB-032E6D0A9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D905-8DD7-4903-B7CC-BA5508B6B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AE6E-B139-40AF-92DF-C11B3040C91E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MODEL ZAVÁDZANIA CIP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Modul S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8 – B1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16000" y="90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13c59"/>
                </a:solidFill>
                <a:latin typeface="Verdana"/>
              </a:rPr>
              <a:t>Fázy modelu zavádzania CIP</a:t>
            </a:r>
            <a:endParaRPr b="0" lang="en-US" sz="3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403280" y="2344680"/>
            <a:ext cx="7345440" cy="30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enzibilizáci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štart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realizáci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tabilizácia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67640" y="515772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Senzibilizácia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18760" y="2577600"/>
            <a:ext cx="7031160" cy="2762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ískať plnú podporu u vedenia podniku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Informácia o cieľoch a spôsoboch postupu pre CIP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otreba zdrojov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Míľniky s kritériami výsledkov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Rozhodnutie pre/proti CIP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13c59"/>
                </a:solidFill>
                <a:latin typeface="Verdana"/>
              </a:rPr>
              <a:t>S</a:t>
            </a: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enzibilizácia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18760" y="2762280"/>
            <a:ext cx="7031160" cy="2085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e informáciu a realizáciu CIP - potreba externej podpory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ví partneri pre jednanie: Podnikoví poradcovia/kyne remeselných komôr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Štart</a:t>
            </a:r>
            <a:endParaRPr b="0" lang="en-US" sz="2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2276640"/>
            <a:ext cx="7201080" cy="316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odrobné plánovanie realizácie CIP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hrnutie externých poradcov/kýň (z remeselnej komory alebo HWK alebo nezávislých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Informovanie zamestnancov o zámere (nástenka, e-mail, atď.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lánovanie a vykonanie úvodného podujatia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Školenie moderátorov pre zainteresovaných/ dobrovoľných zamestnanc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Realizácia</a:t>
            </a:r>
            <a:endParaRPr b="0" lang="en-US" sz="2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76640"/>
            <a:ext cx="7201080" cy="2952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pracovanie metód CIP do podnikových proces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Vykonať hľadanie plytvania, Akcie 5A, cieľové dohody, vizuálny manažment, atď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Treba spracovať zoznam opatrení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Treba otvorene informovať o výsledkoch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oužitie normalizovaných formulárov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13c59"/>
                </a:solidFill>
                <a:latin typeface="Verdana"/>
              </a:rPr>
              <a:t>Sta</a:t>
            </a:r>
            <a:r>
              <a:rPr b="1" i="1" lang="sk-SK" sz="2600" spc="-1" strike="noStrike">
                <a:solidFill>
                  <a:srgbClr val="013c59"/>
                </a:solidFill>
                <a:latin typeface="Verdana"/>
              </a:rPr>
              <a:t>bilizácia</a:t>
            </a:r>
            <a:endParaRPr b="0" lang="en-US" sz="2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2276640"/>
            <a:ext cx="7201080" cy="32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CIP ako nekonečný proces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Zavedenie organizácie podľa vnútornej výstavby podniku a  podľa postupu výroby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Cieľ: riadiť a dokumentovať procesy pri nepatrných nákladoch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riebežne budovať odbornú a metodickú kompetenciu k stanoveným témam CIP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Zovincova</cp:lastModifiedBy>
  <cp:lastPrinted>2005-02-10T15:49:31Z</cp:lastPrinted>
  <dcterms:modified xsi:type="dcterms:W3CDTF">2010-10-04T07:42:58Z</dcterms:modified>
  <cp:revision>109</cp:revision>
  <dc:subject/>
  <dc:title>Kein Folientitel</dc:title>
</cp:coreProperties>
</file>