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12F1-EEAC-4ACA-B65A-10DE25FB7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A771C-5B43-4FCC-8831-AC771C080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928B-CC5E-4C72-B758-010C0F138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1845-D846-4C80-BFC8-2E9B61C98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8BEA-437F-4A7F-89FE-00511F476B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C7F5-E7E7-49EE-B271-5443FB61E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9045-7597-485C-B8A4-F3DEA3F26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D244-18ED-4357-884C-7EFDAEB86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1C69-9A35-4F72-9CE9-CE8A2C968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9164-E0DD-42DB-9805-B830C861D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75FF-905A-48DF-91E2-BBE22429B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72DB-011B-46FF-80BB-C34F97919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D125-C4C2-4981-A64B-26B2FB88F386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MODEL ZAVÁDZANIA CIP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8 – B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600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13c59"/>
                </a:solidFill>
                <a:latin typeface="Verdana"/>
              </a:rPr>
              <a:t>Fázy modelu zavádzania CIP</a:t>
            </a:r>
            <a:endParaRPr b="0" lang="en-US" sz="3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enzibilizác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štart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realizác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tabilizác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Senzibilizácia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18760" y="2577600"/>
            <a:ext cx="7031160" cy="276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ískať plnú podporu u vedenia podniku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Informácia o cieľoch a spôsoboch postupu pre CIP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treba zdrojov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Míľniky s kritériami výsledkov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Rozhodnutie pre/proti CIP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13c59"/>
                </a:solidFill>
                <a:latin typeface="Verdana"/>
              </a:rPr>
              <a:t>S</a:t>
            </a: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enzibilizácia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18760" y="2762280"/>
            <a:ext cx="7031160" cy="208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e informáciu a realizáciu CIP - potreba externej podpory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ví partneri pre jednanie: Podnikoví poradcovia/kyne remeselných komôr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Štart</a:t>
            </a:r>
            <a:endParaRPr b="0" lang="en-US" sz="2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276640"/>
            <a:ext cx="7201080" cy="316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drobné plánovanie realizácie CIP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hrnutie externých poradcov/kýň (z remeselnej komory alebo HWK alebo nezávislých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Informovanie zamestnancov o zámere (nástenka, e-mail, atď.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lánovanie a vykonanie úvodného podujatia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Školenie moderátorov pre zainteresovaných/ dobrovoľných zamestnanc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Realizácia</a:t>
            </a:r>
            <a:endParaRPr b="0" lang="en-US" sz="2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76640"/>
            <a:ext cx="7201080" cy="2952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pracovanie metód CIP do podnikových proces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ykonať hľadanie plytvania, Akcie 5A, cieľové dohody, vizuálny manažment, atď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Treba spracovať zoznam opatrení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Treba otvorene informovať o výsledkoch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užitie normalizovaných formulár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13c59"/>
                </a:solidFill>
                <a:latin typeface="Verdana"/>
              </a:rPr>
              <a:t>Sta</a:t>
            </a: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bilizácia</a:t>
            </a:r>
            <a:endParaRPr b="0" lang="en-US" sz="2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CIP ako nekonečný proces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vedenie organizácie podľa vnútornej výstavby podniku a  podľa postupu výroby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Cieľ: riadiť a dokumentovať procesy pri nepatrných nákladoch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iebežne budovať odbornú a metodickú kompetenciu k stanoveným témam CIP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Zovincova</cp:lastModifiedBy>
  <cp:lastPrinted>2005-02-10T15:49:31Z</cp:lastPrinted>
  <dcterms:modified xsi:type="dcterms:W3CDTF">2010-10-04T07:42:58Z</dcterms:modified>
  <cp:revision>109</cp:revision>
  <dc:subject/>
  <dc:title>Kein Folientitel</dc:title>
</cp:coreProperties>
</file>