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69E3-BE70-46EF-80C1-62606C382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6FC7-1D6B-4492-9BFD-2CF0D700F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658C-8DBE-409C-BEB1-0251D22D4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9815-A981-4974-B207-1F14D2EF0E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DCE7-EEBD-484D-8DA2-4AB3C6E55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EF55-7225-4B13-9785-F5BE492EE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F0F0-52BF-49DD-9296-DB7253AA7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BE3B-DF6E-44F4-A5FA-E8E76E43E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6966-ACC5-41F4-909A-9B34BF889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0BE5-0E74-4D26-B57F-FA9275CD5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9782-3A10-43B1-A65B-AFC33907C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F13F-BA89-4069-85E3-D103BF40E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FA1F-C3AF-4471-95A2-99115E49EF3D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PREHĽAD METÓD  CIP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Modul S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8 – C1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bc956e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56360" y="3068640"/>
            <a:ext cx="2514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6000" y="9079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PREHĽAD METÓD CIP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344680"/>
            <a:ext cx="7345440" cy="30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Hľadanie plytvani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Akcia 5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Dohoda o cieľoch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Vizuálny manažment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67640" y="515772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Hľadanie strát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18760" y="2577600"/>
            <a:ext cx="7031160" cy="276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Identifikácia strát na mieste tvorby hodnôt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Malé »požierače energie« na ktoré sme si zvykli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Spolu sedem druhov strá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907920"/>
            <a:ext cx="7139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Hľadanie strát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08160" y="2271600"/>
          <a:ext cx="7253280" cy="4060800"/>
        </p:xfrm>
        <a:graphic>
          <a:graphicData uri="http://schemas.openxmlformats.org/drawingml/2006/table">
            <a:tbl>
              <a:tblPr/>
              <a:tblGrid>
                <a:gridCol w="3627360"/>
                <a:gridCol w="36259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Oblasť výroby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Kancelárska technika a technológia riadenia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Nadvýroba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Duplicitná a Multiplicitná práca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Zásoby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Zásoby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Doprava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Trasy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Čakacia doba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Stratový čas a Doba uskladnenia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Výroba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Časy na obrábanie a hľadanie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Pohyb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Usporiadanie pracoviska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Chyby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Chyby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Akcia 5A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565360"/>
            <a:ext cx="7056360" cy="252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meriava sa na staré cnosti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mestnanci sa majú snažiť o poriadok a čistotu na pracovisku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67640" y="472428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5A-čka’na pracovisku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2205000"/>
            <a:ext cx="6697800" cy="374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Roztriedenie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Upratanie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Udržiavanie čistoty na pracovisku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Vypracovanie všeobecných noriem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Dodržiavanie a stále zlepšovanie všetkých bod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2286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Cieľová dohoda - ciele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2276640"/>
            <a:ext cx="6985080" cy="37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výšiť motiváciu účasti na CIP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výšiť stotožnenie s podnikom a podnikovými cieľmi.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Vysvetliť príslušné oblasti úloh zamestnancom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Objasniť zamestnancom prínos k úspechu podniku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67640" y="56577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Cieľová dohoda - predpoklady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276640"/>
            <a:ext cx="7056360" cy="302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Cieľovú dohodu stanoviť iba spoločne so zamestnancami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jednať prehľadnosť podnikových činností.</a:t>
            </a: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67640" y="508464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Vizuálny manažment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1916280"/>
            <a:ext cx="6624720" cy="4176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Hľadanie plytvania na mieste (nalepovacími lístkami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edstavenie cieľ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obrazenie skutočného stavu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obrazenie zistených problém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acovné postupy a – pokyny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Normy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2286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Zovincova</cp:lastModifiedBy>
  <cp:lastPrinted>2005-02-10T15:49:31Z</cp:lastPrinted>
  <dcterms:modified xsi:type="dcterms:W3CDTF">2010-10-04T08:15:49Z</dcterms:modified>
  <cp:revision>109</cp:revision>
  <dc:subject/>
  <dc:title>Kein Folientitel</dc:title>
</cp:coreProperties>
</file>