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3DBF-016F-4CC8-AFC9-F14D0C081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A2138-7E74-448E-BE2F-9701947F6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A93E6-47AE-4179-98A7-6512043DB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9665C-A726-4DDB-801D-CF46CCF2D4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112C0-15D6-4466-AA89-44BF0D1AB1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4F9AC-7B7B-43A8-BBC7-8D4D0BDC8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90A4A-E05E-47CE-8031-289F56DCE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80092-B7E3-44F5-9BDA-0FA67D1FA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1A8A0-1C82-4158-A994-91478CEB48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49FAD-B90F-4896-80B4-D80E75D32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31D69-4203-486E-87D6-7721AC97B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8E94-576E-4806-8864-36CB7D70E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S4-A1: PowerPoint-Presentation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“Marketing goals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4F17-02D5-4971-9DBF-B854CFD6C3B2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116000" y="3500280"/>
            <a:ext cx="7391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8080"/>
                </a:solidFill>
                <a:latin typeface="Arial"/>
              </a:rPr>
              <a:t>PREHĽAD METÓD  CIP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Modul S</a:t>
            </a:r>
            <a:r>
              <a:rPr b="0" lang="sk-SK" sz="1800" spc="-1" strike="noStrike">
                <a:solidFill>
                  <a:srgbClr val="808080"/>
                </a:solidFill>
                <a:latin typeface="Arial"/>
              </a:rPr>
              <a:t>8 – C1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5985" t="25469" r="24397" b="51808"/>
          <a:stretch/>
        </p:blipFill>
        <p:spPr>
          <a:xfrm>
            <a:off x="2690640" y="2017800"/>
            <a:ext cx="41133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3c59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3c59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3c59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bc956e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56360" y="3068640"/>
            <a:ext cx="25146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16000" y="9079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13c59"/>
                </a:solidFill>
                <a:latin typeface="Verdana"/>
              </a:rPr>
              <a:t>PREHĽAD METÓD CIP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2344680"/>
            <a:ext cx="7345440" cy="3029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Hľadanie plytvania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Akcia 5A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Dohoda o cieľoch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Vizuálny manažment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67640" y="515772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600" spc="-1" strike="noStrike">
                <a:solidFill>
                  <a:srgbClr val="013c59"/>
                </a:solidFill>
                <a:latin typeface="Verdana"/>
              </a:rPr>
              <a:t>Hľadanie strát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18760" y="2577600"/>
            <a:ext cx="7031160" cy="2762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Identifikácia strát na mieste tvorby hodnôt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Malé »požierače energie« na ktoré sme si zvykli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Spolu sedem druhov strá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907920"/>
            <a:ext cx="7139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13c59"/>
                </a:solidFill>
                <a:latin typeface="Verdana"/>
              </a:rPr>
              <a:t>Hľadanie strát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08160" y="2271600"/>
          <a:ext cx="7253280" cy="4060800"/>
        </p:xfrm>
        <a:graphic>
          <a:graphicData uri="http://schemas.openxmlformats.org/drawingml/2006/table">
            <a:tbl>
              <a:tblPr/>
              <a:tblGrid>
                <a:gridCol w="3627360"/>
                <a:gridCol w="362592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  <a:ea typeface="Times New Roman"/>
                        </a:rPr>
                        <a:t>Oblasť výroby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Kancelárska technika a technológia riadenia</a:t>
                      </a:r>
                      <a:r>
                        <a:rPr b="1" lang="cs-CZ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Nadvýroba</a:t>
                      </a:r>
                      <a:r>
                        <a:rPr b="1" lang="cs-CZ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Duplicitná a Multiplicitná práca</a:t>
                      </a:r>
                      <a:r>
                        <a:rPr b="1" lang="cs-CZ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Zásoby 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Zásoby 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  <a:ea typeface="Times New Roman"/>
                        </a:rPr>
                        <a:t>Doprava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  <a:ea typeface="Times New Roman"/>
                        </a:rPr>
                        <a:t>Trasy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Čakacia doba 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Stratový čas a Doba uskladnenia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  <a:ea typeface="Times New Roman"/>
                        </a:rPr>
                        <a:t>Výroba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Časy na obrábanie a hľadanie</a:t>
                      </a:r>
                      <a:r>
                        <a:rPr b="1" lang="cs-CZ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  <a:ea typeface="Times New Roman"/>
                        </a:rPr>
                        <a:t>Pohyb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Usporiadanie pracoviska</a:t>
                      </a:r>
                      <a:r>
                        <a:rPr b="1" lang="cs-CZ" sz="1200" spc="-1" strike="noStrike">
                          <a:solidFill>
                            <a:srgbClr val="013c59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  <a:ea typeface="Times New Roman"/>
                        </a:rPr>
                        <a:t>Chyby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13c59"/>
                          </a:solidFill>
                          <a:latin typeface="Verdana"/>
                          <a:ea typeface="Times New Roman"/>
                        </a:rPr>
                        <a:t>Chyby</a:t>
                      </a:r>
                      <a:endParaRPr b="0" lang="en-US" sz="1200" spc="-1" strike="noStrike">
                        <a:solidFill>
                          <a:srgbClr val="013c5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200" spc="-1" strike="noStrike">
                <a:solidFill>
                  <a:srgbClr val="013c59"/>
                </a:solidFill>
                <a:latin typeface="Arial"/>
              </a:rPr>
              <a:t>Akcia 5A</a:t>
            </a:r>
            <a:r>
              <a:rPr b="0" lang="cs-CZ" sz="22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2565360"/>
            <a:ext cx="7056360" cy="2521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ameriava sa na staré cnosti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amestnanci sa majú snažiť o poriadok a čistotu na pracovisku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67640" y="472428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200" spc="-1" strike="noStrike">
                <a:solidFill>
                  <a:srgbClr val="013c59"/>
                </a:solidFill>
                <a:latin typeface="Arial"/>
              </a:rPr>
              <a:t>5A-čka’na pracovisku</a:t>
            </a:r>
            <a:r>
              <a:rPr b="0" lang="cs-CZ" sz="22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2205000"/>
            <a:ext cx="6697800" cy="3745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Roztriedenie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Upratanie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Udržiavanie čistoty na pracovisku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Vypracovanie všeobecných noriem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Dodržiavanie a stále zlepšovanie všetkých bodov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67640" y="5589720"/>
            <a:ext cx="122868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200" spc="-1" strike="noStrike">
                <a:solidFill>
                  <a:srgbClr val="013c59"/>
                </a:solidFill>
                <a:latin typeface="Arial"/>
              </a:rPr>
              <a:t>Cieľová dohoda - ciele</a:t>
            </a:r>
            <a:r>
              <a:rPr b="0" lang="cs-CZ" sz="22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1403280" y="2276640"/>
            <a:ext cx="6985080" cy="37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výšiť motiváciu účasti na CIP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výšiť stotožnenie s podnikom a podnikovými cieľmi. 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Vysvetliť príslušné oblasti úloh zamestnancom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Objasniť zamestnancom prínos k úspechu podniku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67640" y="565776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200" spc="-1" strike="noStrike">
                <a:solidFill>
                  <a:srgbClr val="013c59"/>
                </a:solidFill>
                <a:latin typeface="Arial"/>
              </a:rPr>
              <a:t>Cieľová dohoda - predpoklady</a:t>
            </a:r>
            <a:r>
              <a:rPr b="0" lang="cs-CZ" sz="22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2276640"/>
            <a:ext cx="7056360" cy="302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Cieľovú dohodu stanoviť iba spoločne so zamestnancami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jednať prehľadnosť podnikových činností.</a:t>
            </a:r>
            <a:r>
              <a:rPr b="0" lang="sk-SK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67640" y="508464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200" spc="-1" strike="noStrike">
                <a:solidFill>
                  <a:srgbClr val="013c59"/>
                </a:solidFill>
                <a:latin typeface="Arial"/>
              </a:rPr>
              <a:t>Vizuálny manažment</a:t>
            </a:r>
            <a:r>
              <a:rPr b="0" lang="cs-CZ" sz="22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1916280"/>
            <a:ext cx="6624720" cy="4176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Hľadanie plytvania na mieste (nalepovacími lístkami)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redstavenie cieľov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obrazenie skutočného stavu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obrazenie zistených problémov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racovné postupy a – pokyny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Normy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67640" y="5589720"/>
            <a:ext cx="122868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Zovincova</cp:lastModifiedBy>
  <cp:lastPrinted>2005-02-10T15:49:31Z</cp:lastPrinted>
  <dcterms:modified xsi:type="dcterms:W3CDTF">2010-10-04T08:15:49Z</dcterms:modified>
  <cp:revision>109</cp:revision>
  <dc:subject/>
  <dc:title>Kein Folientitel</dc:title>
</cp:coreProperties>
</file>